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A8A4-42C5-458C-81FB-3BD139E47D7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0CA3-6B22-40A0-988A-B79A02CFE6C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600120" y="4346640"/>
            <a:ext cx="56116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ldImg"/>
          </p:nvPr>
        </p:nvSpPr>
        <p:spPr>
          <a:xfrm>
            <a:off x="803160" y="209520"/>
            <a:ext cx="5200920" cy="3900600"/>
          </a:xfrm>
          <a:prstGeom prst="rect">
            <a:avLst/>
          </a:prstGeom>
          <a:ln w="0">
            <a:noFill/>
          </a:ln>
        </p:spPr>
      </p:sp>
      <p:sp>
        <p:nvSpPr>
          <p:cNvPr id="77" name=""/>
          <p:cNvSpPr/>
          <p:nvPr/>
        </p:nvSpPr>
        <p:spPr>
          <a:xfrm>
            <a:off x="600120" y="4590360"/>
            <a:ext cx="5556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oz Allen Hamilton Standard Col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s should be used in the color pairs whenever possible. Do not mix and match colors, use pairs together as show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ack, White and Gray can be used with any of the other colo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6440" y="6567480"/>
            <a:ext cx="677520" cy="682560"/>
          </a:xfrm>
          <a:prstGeom prst="rect">
            <a:avLst/>
          </a:prstGeom>
          <a:solidFill>
            <a:srgbClr val="3601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19160" y="7056360"/>
            <a:ext cx="679320" cy="681120"/>
          </a:xfrm>
          <a:prstGeom prst="rect">
            <a:avLst/>
          </a:prstGeom>
          <a:solidFill>
            <a:srgbClr val="f205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2280" y="6567480"/>
            <a:ext cx="679320" cy="682560"/>
          </a:xfrm>
          <a:prstGeom prst="rect">
            <a:avLst/>
          </a:prstGeom>
          <a:solidFill>
            <a:srgbClr val="0f43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17600" y="7056360"/>
            <a:ext cx="676440" cy="681120"/>
          </a:xfrm>
          <a:prstGeom prst="rect">
            <a:avLst/>
          </a:prstGeom>
          <a:solidFill>
            <a:srgbClr val="e8f4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06800" y="6567480"/>
            <a:ext cx="681120" cy="682560"/>
          </a:xfrm>
          <a:prstGeom prst="rect">
            <a:avLst/>
          </a:prstGeom>
          <a:solidFill>
            <a:srgbClr val="0b1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41600" y="7056360"/>
            <a:ext cx="679680" cy="681120"/>
          </a:xfrm>
          <a:prstGeom prst="rect">
            <a:avLst/>
          </a:prstGeom>
          <a:solidFill>
            <a:srgbClr val="7e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3160" y="6567480"/>
            <a:ext cx="676440" cy="682560"/>
          </a:xfrm>
          <a:prstGeom prst="rect">
            <a:avLst/>
          </a:prstGeom>
          <a:solidFill>
            <a:srgbClr val="9e9e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95880" y="6567480"/>
            <a:ext cx="676080" cy="682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27440" y="7056360"/>
            <a:ext cx="67968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6320" y="5682960"/>
            <a:ext cx="7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rpl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27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68400" y="5682960"/>
            <a:ext cx="7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en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2640" y="5682960"/>
            <a:ext cx="75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u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2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14960" y="6291360"/>
            <a:ext cx="75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ack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73800" y="5804640"/>
            <a:ext cx="758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Cool Gray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54080" y="7802640"/>
            <a:ext cx="75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d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16160" y="7802640"/>
            <a:ext cx="75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llow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39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70400" y="7802640"/>
            <a:ext cx="760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qua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59480" y="7802640"/>
            <a:ext cx="75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i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8CB0-68AF-4000-ADEE-DD833EB96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81A1-3CE0-4223-B50C-ECAA5B25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D33E-1294-48AC-9168-A2537CAF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1BBF-C15D-457A-8559-35A29884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441A-B3FB-4AEF-87B0-CB20FA22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2107-7E06-410C-A2A5-37B0FA1F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6362-30E5-493F-9F3E-DB1CC962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03D2-33EE-41F1-9C66-C69C3192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BB60-3483-4CB8-A74E-8131FA7D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CC79-7F2F-494C-B69C-48F3A9E7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3F19-CF09-4720-A4AB-0111F8F6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B964-675C-4788-A465-0F160EE5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71400" y="6471720"/>
            <a:ext cx="172584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217C-C31E-4273-A80B-0DF1BBFD8926}" type="slidenum">
              <a:rPr b="0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236000" y="230040"/>
            <a:ext cx="1657080" cy="5270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35200" cy="10526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awaly.com.sa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71640" y="2266920"/>
            <a:ext cx="3745080" cy="32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ar-SA" sz="2800" spc="-1" strike="noStrike" u="sng">
                <a:solidFill>
                  <a:srgbClr val="0c2d83"/>
                </a:solidFill>
                <a:uFillTx/>
                <a:latin typeface="Times New Roman"/>
              </a:rPr>
              <a:t>جوال الأطفا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200" spc="-1" strike="noStrike">
                <a:solidFill>
                  <a:srgbClr val="0c2d83"/>
                </a:solidFill>
                <a:latin typeface="Times New Roman"/>
              </a:rPr>
              <a:t>September </a:t>
            </a:r>
            <a:r>
              <a:rPr b="0" lang="ar-SA" sz="1200" spc="-1" strike="noStrike">
                <a:solidFill>
                  <a:srgbClr val="0c2d83"/>
                </a:solidFill>
                <a:latin typeface="Times New Roman"/>
              </a:rPr>
              <a:t> 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ar-SA" sz="2000" spc="-1" strike="noStrike">
                <a:solidFill>
                  <a:srgbClr val="0c2d83"/>
                </a:solidFill>
                <a:latin typeface="Times New Roman"/>
              </a:rPr>
              <a:t>الإدارة العامة للتسويق - الجوا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6520" y="6463080"/>
            <a:ext cx="10080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19080" y="0"/>
            <a:ext cx="9158400" cy="1828800"/>
          </a:xfrm>
          <a:custGeom>
            <a:avLst/>
            <a:gdLst/>
            <a:ahLst/>
            <a:rect l="l" t="t" r="r" b="b"/>
            <a:pathLst>
              <a:path w="6252" h="1152">
                <a:moveTo>
                  <a:pt x="0" y="1152"/>
                </a:moveTo>
                <a:lnTo>
                  <a:pt x="12" y="0"/>
                </a:lnTo>
                <a:lnTo>
                  <a:pt x="6252" y="0"/>
                </a:lnTo>
                <a:cubicBezTo>
                  <a:pt x="6252" y="0"/>
                  <a:pt x="6252" y="282"/>
                  <a:pt x="6252" y="564"/>
                </a:cubicBezTo>
                <a:cubicBezTo>
                  <a:pt x="2280" y="540"/>
                  <a:pt x="0" y="1152"/>
                  <a:pt x="0" y="1152"/>
                </a:cubicBezTo>
                <a:close/>
              </a:path>
            </a:pathLst>
          </a:custGeom>
          <a:solidFill>
            <a:srgbClr val="0c2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4920" cy="1859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112160" y="209520"/>
            <a:ext cx="155088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c2d83"/>
                </a:solidFill>
                <a:latin typeface="Times New Roman"/>
              </a:rPr>
              <a:t>لماذا جوال الأطف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67280" indent="-413280" algn="just" rtl="1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</a:rPr>
              <a:t>الشريحة المستهدفة كبيرة جداً و لم يتم خدمتها و تلبية إحتياجاتها بخدمات إتصالات بشكل مباشر من قبل.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”المجتمع السعودي صغير الأعمار نسبياً حيث حيث تفيد الاحصاءات أن أعمار ما يقارب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38.3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% من السكان أقل من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 سنة، و نسبة من أعمارهم بين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 و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 سنوات تقارب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11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% من تعداد السكان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7280" indent="-413280" algn="just" rtl="1">
              <a:lnSpc>
                <a:spcPct val="80000"/>
              </a:lnSpc>
              <a:spcBef>
                <a:spcPts val="24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</a:rPr>
              <a:t>استقطاب عملاء جدد و زيادة حصة السوق و الدخ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7280" indent="-413280" algn="just" rtl="1">
              <a:lnSpc>
                <a:spcPct val="80000"/>
              </a:lnSpc>
              <a:spcBef>
                <a:spcPts val="24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</a:rPr>
              <a:t>زيادة إرتباط كافة أفراد العائلة معنوياً و مادياً بالجوا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7280" indent="-413280" algn="just" rtl="1">
              <a:lnSpc>
                <a:spcPct val="80000"/>
              </a:lnSpc>
              <a:spcBef>
                <a:spcPts val="21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ترسيخ صورة الجوال في ذهن العميل كمقدم خدمة ملتزم بخدمة كافة شرائح المجتمع و قادر على التحرك بمرونة و فاعلية لطرح خدمات و أفكار جديدة و خلاق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c2d83"/>
                </a:solidFill>
                <a:latin typeface="Times New Roman"/>
              </a:rPr>
              <a:t>الرسالة و الشريحة المستهدفة</a:t>
            </a:r>
            <a:r>
              <a:rPr b="0" lang="en-US" sz="3200" spc="-1" strike="noStrike">
                <a:solidFill>
                  <a:srgbClr val="0c2d83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003399"/>
                </a:solidFill>
                <a:uFillTx/>
                <a:latin typeface="Times New Roman"/>
              </a:rPr>
              <a:t>الرسا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901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rtl="1">
              <a:spcBef>
                <a:spcPts val="774"/>
              </a:spcBef>
              <a:buNone/>
              <a:tabLst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4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003399"/>
                </a:solidFill>
                <a:uFillTx/>
                <a:latin typeface="Times New Roman"/>
              </a:rPr>
              <a:t>الشريحة المستهد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74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ِِِالعوائل السعودية و المقيمة ذات الدخل العالي و المتوسط  و التي لديها طفل أو أكثر ضمن 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 – 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 سنوات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4360" y="2060640"/>
          <a:ext cx="7638840" cy="1955880"/>
        </p:xfrm>
        <a:graphic>
          <a:graphicData uri="http://schemas.openxmlformats.org/drawingml/2006/table">
            <a:tbl>
              <a:tblPr/>
              <a:tblGrid>
                <a:gridCol w="6408720"/>
                <a:gridCol w="1230120"/>
              </a:tblGrid>
              <a:tr h="991800"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2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”</a:t>
                      </a:r>
                      <a:r>
                        <a:rPr b="1" i="1" lang="ar-SA" sz="2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راحة البال“</a:t>
                      </a:r>
                      <a:r>
                        <a:rPr b="0" i="1" lang="ar-SA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عن طريق وسيلة اتصال مستمرة و امنة مع الابناء في أي وقت ومك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الأه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83240"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الجوال لنا كلنا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الأطفا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900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964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960" indent="0" algn="ct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66"/>
                </a:solidFill>
                <a:uFillTx/>
                <a:latin typeface="Times New Roman"/>
              </a:rPr>
              <a:t>تتمحور مواصفات الخدمة حول توفير ”راحة البال“ للوالدين عن طريق وسيلة تواصل و متابعة دائمة للطفل مع إعطائه بعض الحر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just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3960" algn="r" rtl="1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0066"/>
                </a:solidFill>
                <a:latin typeface="Times New Roman"/>
              </a:rPr>
              <a:t>جوا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3960" algn="r" rtl="1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"جوالي" هي خدمة جوال مفوتر صممت كي تمنح الأهل راحة البال من خلال جهاز خاص للأطفال، يمكّن الأهل و أبنائهم من التواصل معاً بسهولة و أمان. حيث يمكن للأطفال الاتصال فقط بأرقام محددة مسبقاً من قبل الأهل كما يمكن للأهل تتبع مكان الأطفال و تحديد مناطق آم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3960" algn="r" rtl="1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0066"/>
                </a:solidFill>
                <a:latin typeface="Times New Roman"/>
              </a:rPr>
              <a:t>الاشترا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عند الاشتراك بخدمة جوالي ستحصل على رقم جديد و مفوتر مع شريحة خاصة بالجها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يمكن شراء جهاز "جوالي" الخاص من مراكز بيع الجوال أو أحد موزعي الخدمة المعتمدين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لتفعيل الخدمة أدخل شريحة "جوالي" في جهاز "جوالي" الخاص ثم أرسل رسالة قصيرة فارغة إلى </a:t>
            </a: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6555</a:t>
            </a: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 من جوال الأب أو قم بزيارة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jawaly.com.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يمكنك الدخول إلى موقع "جوالي" و التحكم بالإعدادات من خلال اسم المستخدم و كلمة السر التي ستحصل عليها عند شرائك الجها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5280" y="1552680"/>
            <a:ext cx="8280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الاتصال الآمن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لجهاز "جوالي" الاتصال بخمسة أرقام بسهولة عن طريق الضغط مباشرة على أزرار الجهاز، كما يمكنه الاتصال بـ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1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رقماً آخر عن طريق استخدام دليل الأرقام في الجهاز عند الحاج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جميع هذه الأرقام يمكن برمجتها و التحكم بها فقط عن طريق الأهل و ذلك من خلال موقع "جوالي" على الانترنت أو عبر رسالة من جوال الأب (أو الأم) إلى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655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استخدام سهل و آمن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استخدام "جوالي" بسهولة من قبل الأهل و الأطفال كما أن جهاز "جوالي" لا يستقبل أو يرسل الرسائل المتعددة الوسائط أو البلوتووث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2064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9640" y="2133720"/>
            <a:ext cx="813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إنذار ضعف البطارية</a:t>
            </a: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ea typeface="Simplified Arab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تلقى الأب (أو الأم) رسالة إلى جواله الخاص تفيده بضرورة إعادة شحن بطارية "جوالي" عند الحاج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رد تلقائي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في حال لم يرد الطفل على اتصال الأهل خلال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1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ثانية يقوم "جوالي" بالرد تلقائياً كي يتمكن الأهل من سماع ما يدور حول الطفل و الاطمئنان علي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4936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9640" y="1557360"/>
            <a:ext cx="806472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تحديد موقع الطفل*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حتوي "جوالي" على نظام تحديد المواقع العالمي </a:t>
            </a:r>
            <a:r>
              <a:rPr b="0" lang="en-US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GPS</a:t>
            </a:r>
            <a:r>
              <a:rPr b="0" lang="en-US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 ليتمكن الأهل من معرفة مكان تواجد أطفالهم (بناءً على آخر قراءة للجهاز خارج المباني) و بدقة تصل إلى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20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مترا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تتبع مسار الطفل*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للأهل معرفة مواقع أطفالهم خلال أوقات مختلفة من اليوم من خلال موقع جوالي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منطقة الأمان*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للأهل تحديد مواقع آمنة (بين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500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متر و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كيلومتر) بحيث يتلقى الأب (أو الأم) رسالة إلى جواله في حال خروج أو دخول الطفل للمنطقة الآمن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c2d83"/>
                </a:solidFill>
                <a:latin typeface="Arial"/>
                <a:ea typeface="Simplified Arabic"/>
              </a:rPr>
              <a:t>* لتحديد الموقع بدقة يجب أن يبقى جهاز "جوالي" خارج المبنى </a:t>
            </a:r>
            <a:r>
              <a:rPr b="0" lang="en-US" sz="1800" spc="-1" strike="noStrike">
                <a:solidFill>
                  <a:srgbClr val="0c2d83"/>
                </a:solidFill>
                <a:latin typeface="Arial"/>
                <a:ea typeface="Simplified Arab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4936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348000" y="620640"/>
            <a:ext cx="2303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الرسو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763640" y="3141720"/>
          <a:ext cx="5715000" cy="730080"/>
        </p:xfrm>
        <a:graphic>
          <a:graphicData uri="http://schemas.openxmlformats.org/drawingml/2006/table">
            <a:tbl>
              <a:tblPr/>
              <a:tblGrid>
                <a:gridCol w="1257480"/>
                <a:gridCol w="4457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ر.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اشتراك الشهر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5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ر.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سعر الدقيقة للمكالمات المحلية داخل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و خارج الشبك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763640" y="2708280"/>
          <a:ext cx="5715000" cy="365040"/>
        </p:xfrm>
        <a:graphic>
          <a:graphicData uri="http://schemas.openxmlformats.org/drawingml/2006/table">
            <a:tbl>
              <a:tblPr/>
              <a:tblGrid>
                <a:gridCol w="1257480"/>
                <a:gridCol w="4457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ر.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رسوم التأسي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11:29:48Z</dcterms:created>
  <dc:creator>aakanhal</dc:creator>
  <dc:description/>
  <dc:language>en-US</dc:language>
  <cp:lastModifiedBy>STC</cp:lastModifiedBy>
  <dcterms:modified xsi:type="dcterms:W3CDTF">2007-09-18T09:56:06Z</dcterms:modified>
  <cp:revision>102</cp:revision>
  <dc:subject/>
  <dc:title>PowerPoint Presentation</dc:title>
</cp:coreProperties>
</file>