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087C-E8E0-4664-98B1-3D468A54145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65AA-639E-4E08-9247-FF233B226C1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00120" y="4346640"/>
            <a:ext cx="56116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ldImg"/>
          </p:nvPr>
        </p:nvSpPr>
        <p:spPr>
          <a:xfrm>
            <a:off x="803160" y="209520"/>
            <a:ext cx="5200920" cy="3900600"/>
          </a:xfrm>
          <a:prstGeom prst="rect">
            <a:avLst/>
          </a:prstGeom>
          <a:ln w="0">
            <a:noFill/>
          </a:ln>
        </p:spPr>
      </p:sp>
      <p:sp>
        <p:nvSpPr>
          <p:cNvPr id="77" name=""/>
          <p:cNvSpPr/>
          <p:nvPr/>
        </p:nvSpPr>
        <p:spPr>
          <a:xfrm>
            <a:off x="600120" y="4590360"/>
            <a:ext cx="555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6440" y="6567480"/>
            <a:ext cx="677520" cy="68256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19160" y="7056360"/>
            <a:ext cx="679320" cy="68112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2280" y="6567480"/>
            <a:ext cx="679320" cy="68256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17600" y="7056360"/>
            <a:ext cx="676440" cy="68112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06800" y="6567480"/>
            <a:ext cx="681120" cy="68256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41600" y="7056360"/>
            <a:ext cx="679680" cy="68112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3160" y="6567480"/>
            <a:ext cx="676440" cy="68256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95880" y="6567480"/>
            <a:ext cx="676080" cy="68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7440" y="7056360"/>
            <a:ext cx="67968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632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6840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2640" y="5682960"/>
            <a:ext cx="75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14960" y="6291360"/>
            <a:ext cx="7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73800" y="5804640"/>
            <a:ext cx="758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5408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1616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70400" y="7802640"/>
            <a:ext cx="76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59480" y="7802640"/>
            <a:ext cx="75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F7A-F128-469A-AF47-3468C6BA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FA5B-3014-4B3E-BFA3-C52B31FC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094-3E04-4387-B04F-80F7D71F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831-751C-448B-8B19-1B81D75B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8F97-21F4-45E4-A874-D3086356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28E3-7967-45D0-9B0C-F0F3F46E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4A97-7FC0-416B-864D-BDEC858D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D4A2-7F2E-42AB-825B-D31127B9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C577-9A2B-4FEC-B57C-7F76DCBB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E58C-4089-400C-8A22-AAF9F1BE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CFCC-FF9F-4A81-B94D-A4ED2B91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5F80-897E-43C1-84BF-2224CDA4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71400" y="6471720"/>
            <a:ext cx="17258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E77C-41A6-4834-9677-B37B9B9D60FB}" type="slidenum">
              <a:rPr b="0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236000" y="230040"/>
            <a:ext cx="1657080" cy="5270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1052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awaly.com.sa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71640" y="2266920"/>
            <a:ext cx="3745080" cy="32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800" spc="-1" strike="noStrike" u="sng">
                <a:solidFill>
                  <a:srgbClr val="0c2d83"/>
                </a:solidFill>
                <a:uFillTx/>
                <a:latin typeface="Times New Roman"/>
              </a:rPr>
              <a:t>جوال الأطف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200" spc="-1" strike="noStrike">
                <a:solidFill>
                  <a:srgbClr val="0c2d83"/>
                </a:solidFill>
                <a:latin typeface="Times New Roman"/>
              </a:rPr>
              <a:t>September </a:t>
            </a:r>
            <a:r>
              <a:rPr b="0" lang="ar-SA" sz="1200" spc="-1" strike="noStrike">
                <a:solidFill>
                  <a:srgbClr val="0c2d83"/>
                </a:solidFill>
                <a:latin typeface="Times New Roman"/>
              </a:rPr>
              <a:t> 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000" spc="-1" strike="noStrike">
                <a:solidFill>
                  <a:srgbClr val="0c2d83"/>
                </a:solidFill>
                <a:latin typeface="Times New Roman"/>
              </a:rPr>
              <a:t>الإدارة العامة للتسويق - الجوا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6520" y="6463080"/>
            <a:ext cx="10080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9080" y="0"/>
            <a:ext cx="9158400" cy="1828800"/>
          </a:xfrm>
          <a:custGeom>
            <a:avLst/>
            <a:gdLst/>
            <a:ahLst/>
            <a:rect l="l" t="t" r="r" b="b"/>
            <a:pathLst>
              <a:path w="6252" h="1152">
                <a:moveTo>
                  <a:pt x="0" y="1152"/>
                </a:moveTo>
                <a:lnTo>
                  <a:pt x="12" y="0"/>
                </a:lnTo>
                <a:lnTo>
                  <a:pt x="6252" y="0"/>
                </a:lnTo>
                <a:cubicBezTo>
                  <a:pt x="6252" y="0"/>
                  <a:pt x="6252" y="282"/>
                  <a:pt x="6252" y="564"/>
                </a:cubicBezTo>
                <a:cubicBezTo>
                  <a:pt x="2280" y="540"/>
                  <a:pt x="0" y="1152"/>
                  <a:pt x="0" y="1152"/>
                </a:cubicBezTo>
                <a:close/>
              </a:path>
            </a:pathLst>
          </a:custGeom>
          <a:solidFill>
            <a:srgbClr val="0c2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4920" cy="185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12160" y="209520"/>
            <a:ext cx="15508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c2d83"/>
                </a:solidFill>
                <a:latin typeface="Times New Roman"/>
              </a:rPr>
              <a:t>لماذا جوال الأطف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67280" indent="-413280" algn="just" rtl="1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لشريحة المستهدفة كبيرة جداً و لم يتم خدمتها و تلبية إحتياجاتها بخدمات إتصالات بشكل مباشر من قبل.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”المجتمع السعودي صغير الأعمار نسبياً حيث حيث تفيد الاحصاءات أن أعمار ما ي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38.3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السكان أقل م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ة، و نسبة من أعمارهم بي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و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وات ت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تعداد السكان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ستقطاب عملاء جدد و زيادة حصة السوق و الدخ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زيادة إرتباط كافة أفراد العائلة معنوياً و مادياً بالجوا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1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ترسيخ صورة الجوال في ذهن العميل كمقدم خدمة ملتزم بخدمة كافة شرائح المجتمع و قادر على التحرك بمرونة و فاعلية لطرح خدمات و أفكار جديدة و خلاق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c2d83"/>
                </a:solidFill>
                <a:latin typeface="Times New Roman"/>
              </a:rPr>
              <a:t>الرسالة و الشريحة المستهدفة</a:t>
            </a:r>
            <a:r>
              <a:rPr b="0" lang="en-US" sz="3200" spc="-1" strike="noStrike">
                <a:solidFill>
                  <a:srgbClr val="0c2d83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رسا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9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rtl="1">
              <a:spcBef>
                <a:spcPts val="774"/>
              </a:spcBef>
              <a:buNone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4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شريحة المستهد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74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ِِِالعوائل السعودية و المقيمة ذات الدخل العالي و المتوسط  و التي لديها طفل أو أكثر ضمن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–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سنوات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4360" y="2060640"/>
          <a:ext cx="7638840" cy="1955880"/>
        </p:xfrm>
        <a:graphic>
          <a:graphicData uri="http://schemas.openxmlformats.org/drawingml/2006/table">
            <a:tbl>
              <a:tblPr/>
              <a:tblGrid>
                <a:gridCol w="6408720"/>
                <a:gridCol w="1230120"/>
              </a:tblGrid>
              <a:tr h="99180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”</a:t>
                      </a: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راحة البال“</a:t>
                      </a:r>
                      <a:r>
                        <a:rPr b="0" i="1" lang="ar-SA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عن طريق وسيلة اتصال مستمرة و امنة مع الابناء في أي وقت ومك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الأه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8324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جوال لنا كلن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أطف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9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66"/>
                </a:solidFill>
                <a:uFillTx/>
                <a:latin typeface="Times New Roman"/>
              </a:rPr>
              <a:t>تتمحور مواصفات الخدمة حول توفير ”راحة البال“ للوالدين عن طريق وسيلة تواصل و متابعة دائمة للطفل مع إعطائه بعض الح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just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جو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"جوالي" هي خدمة جوال مفوتر صممت كي تمنح الأهل راحة البال من خلال جهاز خاص للأطفال، يمكّن الأهل و أبنائهم من التواصل معاً بسهولة و أمان. حيث يمكن للأطفال الاتصال فقط بأرقام محددة مسبقاً من قبل الأهل كما يمكن للأهل تتبع مكان الأطفال و تحديد مناطق آم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الاشترا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عند الاشتراك بخدمة جوالي ستحصل على رقم جديد و مفوتر مع شريحة خاصة ب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 شراء جهاز "جوالي" الخاص من مراكز بيع الجوال أو أحد موزعي الخدمة المعتمدي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لتفعيل الخدمة أدخل شريحة "جوالي" في جهاز "جوالي" الخاص ثم أرسل رسالة قصيرة فارغة إلى 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6555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 من جوال الأب أو قم بزيارة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jawaly.com.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ك الدخول إلى موقع "جوالي" و التحكم بالإعدادات من خلال اسم المستخدم و كلمة السر التي ستحصل عليها عند شرائك 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55268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لاتصال ال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جهاز "جوالي" الاتصال بخمسة أرقام بسهولة عن طريق الضغط مباشرة على أزرار الجهاز، كما يمكنه الاتصال بـ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رقماً آخر عن طريق استخدام دليل الأرقام في الجهاز عند الحاج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جميع هذه الأرقام يمكن برمجتها و التحكم بها فقط عن طريق الأهل و ذلك من خلال موقع "جوالي" على الانترنت أو عبر رسالة من جوال الأب (أو الأم)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655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ستخدام سهل و 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استخدام "جوالي" بسهولة من قبل الأهل و الأطفال كما أن جهاز "جوالي" لا يستقبل أو يرسل الرسائل المتعددة الوسائط أو البلوتووث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2064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213372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إنذار ضعف البطارية</a:t>
            </a: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ea typeface="Simplified Arab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تلقى الأب (أو الأم) رسالة إلى جواله الخاص تفيده بضرورة إعادة شحن بطارية "جوالي" عند الحاج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رد تلقائي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في حال لم يرد الطفل على اتصال الأهل خلال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ثانية يقوم "جوالي" بالرد تلقائياً كي يتمكن الأهل من سماع ما يدور حول الطفل و الاطمئنان علي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557360"/>
            <a:ext cx="806472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حديد موقع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حتوي "جوالي" على نظام تحديد المواقع العالمي 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GPS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 ليتمكن الأهل من معرفة مكان تواجد أطفالهم (بناءً على آخر قراءة للجهاز خارج المباني) و بدقة تصل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2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ا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تبع مسار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معرفة مواقع أطفالهم خلال أوقات مختلفة من اليوم من خلال موقع جوالي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منطقة الأمان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تحديد مواقع آمنة (بين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0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 و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كيلومتر) بحيث يتلقى الأب (أو الأم) رسالة إلى جواله في حال خروج أو دخول الطفل للمنطقة الآمن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* لتحديد الموقع بدقة يجب أن يبقى جهاز "جوالي" خارج المبنى </a:t>
            </a:r>
            <a:r>
              <a:rPr b="0" lang="en-US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48000" y="620640"/>
            <a:ext cx="2303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رسو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63640" y="3141720"/>
          <a:ext cx="5715000" cy="73008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اشتراك الشهر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عر الدقيقة للمكالمات المحلية داخ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 خارج الشب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763640" y="2708280"/>
          <a:ext cx="5715000" cy="36504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رسوم التأسي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1:29:48Z</dcterms:created>
  <dc:creator>aakanhal</dc:creator>
  <dc:description/>
  <dc:language>en-US</dc:language>
  <cp:lastModifiedBy>STC</cp:lastModifiedBy>
  <dcterms:modified xsi:type="dcterms:W3CDTF">2007-09-18T09:56:06Z</dcterms:modified>
  <cp:revision>102</cp:revision>
  <dc:subject/>
  <dc:title>PowerPoint Presentation</dc:title>
</cp:coreProperties>
</file>