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28CF-AB14-4331-88D0-131BA6F0A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DBED-055C-4BAB-9D07-9D8910185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5DDF-B5DA-497B-8A09-EAA2F8CD8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DF20-2CDD-48C1-BEE6-F7BD10611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B76F-3B63-42BD-9C80-21AFC9150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0B82-4E42-461A-B4C7-E8ACDEE05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B602-13A7-47CF-BD39-E4D8F3D4F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5980-04DF-456D-AA18-8C8536F5B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2C41-CB30-4F02-A33F-CFD359424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8201-97AC-4C75-BE36-5C45B0F6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9CD0-2E8B-454C-9175-CB44B4A2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7BCE-B7F8-4AD2-9D23-086A7EA5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36ADA-F9A7-4AF9-B827-0640A6EE67D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2.png"/><Relationship Id="rId12" Type="http://schemas.openxmlformats.org/officeDocument/2006/relationships/image" Target="../media/image3.png"/><Relationship Id="rId13" Type="http://schemas.openxmlformats.org/officeDocument/2006/relationships/image" Target="../media/image4.png"/><Relationship Id="rId1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5.png"/><Relationship Id="rId19" Type="http://schemas.openxmlformats.org/officeDocument/2006/relationships/image" Target="../media/image6.png"/><Relationship Id="rId2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3.png"/><Relationship Id="rId19" Type="http://schemas.openxmlformats.org/officeDocument/2006/relationships/image" Target="../media/image14.png"/><Relationship Id="rId20" Type="http://schemas.openxmlformats.org/officeDocument/2006/relationships/image" Target="../media/image13.png"/><Relationship Id="rId21" Type="http://schemas.openxmlformats.org/officeDocument/2006/relationships/image" Target="../media/image14.png"/><Relationship Id="rId2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0"/>
            <a:ext cx="7086600" cy="18288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ddffdd">
                  <a:alpha val="56078"/>
                </a:srgbClr>
              </a:gs>
              <a:gs pos="50000">
                <a:srgbClr val="e1f2f3">
                  <a:alpha val="43137"/>
                </a:srgbClr>
              </a:gs>
              <a:gs pos="100000">
                <a:srgbClr val="ddffdd">
                  <a:alpha val="56078"/>
                </a:srgbClr>
              </a:gs>
            </a:gsLst>
            <a:lin ang="13500000"/>
          </a:gradFill>
          <a:ln w="38160">
            <a:solidFill>
              <a:srgbClr val="4198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7600"/>
                </a:solidFill>
                <a:latin typeface="Arial"/>
                <a:cs typeface="Andalus"/>
              </a:rPr>
              <a:t>قراءة القوائم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808080"/>
                </a:solidFill>
                <a:latin typeface="Arial"/>
                <a:cs typeface="Arabic Transparent"/>
              </a:rPr>
              <a:t>إعدا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دكتور/عبد اللطيف بن محمد باشي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دكتور/توفيق بن عبد المحسن الخيا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دكتور/محمود بن عمر باعيس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808080"/>
                </a:solidFill>
                <a:latin typeface="Arial"/>
                <a:cs typeface="Arabic Transparent"/>
              </a:rPr>
              <a:t>قسم المحاسبة – جامعة الملك عبد العزي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5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76,0,0)"/>
                                      </p:to>
                                    </p:set>
                                    <p:set>
                                      <p:cBhvr>
                                        <p:cTn id="46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76,0,0)"/>
                                      </p:to>
                                    </p:set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أجزاء الرئيسية لقائمة الدخ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5800" y="1752480"/>
            <a:ext cx="762012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5120" indent="-403200" algn="r" rtl="1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ايرادات ( المبيعات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03200" algn="r" rtl="1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مصروفا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03200" algn="r" rtl="1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خصص الزكا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03200" algn="r" rtl="1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صافي الرب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5120" indent="-403200" algn="r" rtl="1"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ربح السه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2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2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قائمة التدفقات النقد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1080" indent="0" algn="r" rtl="1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هدف الرئيسي من قائمة التدفقات النقدية هو إمداد المستفيدين بمعلومات عن الوضع النقدي للشرك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r" rtl="1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وضح بالتفصيل حجم التدفقات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نقدية الداخلة الى الشرك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نقدية الخارجة عن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نقدية المنتجة من الانشطة التشغيلية للشرك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r" rtl="1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2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أجزاء الرئيسية لقائمة التدفقات النقد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905120"/>
            <a:ext cx="7620120" cy="30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 algn="r" rtl="1">
              <a:lnSpc>
                <a:spcPct val="17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صافي النقد من الانشطة التشغي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r" rtl="1">
              <a:lnSpc>
                <a:spcPct val="17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صافي النقد من الانشطة الاستثما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 algn="r" rtl="1">
              <a:lnSpc>
                <a:spcPct val="170000"/>
              </a:lnSpc>
              <a:spcBef>
                <a:spcPts val="2001"/>
              </a:spcBef>
              <a:buClr>
                <a:srgbClr val="000000"/>
              </a:buClr>
              <a:buFont typeface="Wingdings 2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صافي النقد من الانشطة التمويل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2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أدوات الاساسية لتحليل (قراءة)  القوائم المالي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905120" y="1599840"/>
            <a:ext cx="6870600" cy="4191120"/>
            <a:chOff x="1905120" y="1599840"/>
            <a:chExt cx="6870600" cy="4191120"/>
          </a:xfrm>
        </p:grpSpPr>
        <p:cxnSp>
          <p:nvCxnSpPr>
            <p:cNvPr id="89" name="_s71688"/>
            <p:cNvCxnSpPr>
              <a:stCxn id="90" idx="3"/>
              <a:endCxn id="91" idx="2"/>
            </p:cNvCxnSpPr>
            <p:nvPr/>
          </p:nvCxnSpPr>
          <p:spPr>
            <a:xfrm flipV="1">
              <a:off x="4976640" y="3009240"/>
              <a:ext cx="1773720" cy="2504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2" name="_s71689"/>
            <p:cNvCxnSpPr>
              <a:stCxn id="93" idx="3"/>
              <a:endCxn id="91" idx="2"/>
            </p:cNvCxnSpPr>
            <p:nvPr/>
          </p:nvCxnSpPr>
          <p:spPr>
            <a:xfrm flipV="1">
              <a:off x="4976640" y="3009240"/>
              <a:ext cx="1773720" cy="1688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4" name="_s71690"/>
            <p:cNvCxnSpPr>
              <a:stCxn id="95" idx="3"/>
              <a:endCxn id="91" idx="2"/>
            </p:cNvCxnSpPr>
            <p:nvPr/>
          </p:nvCxnSpPr>
          <p:spPr>
            <a:xfrm flipV="1">
              <a:off x="4976640" y="3008880"/>
              <a:ext cx="1773720" cy="849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1" name="_s71691"/>
            <p:cNvSpPr/>
            <p:nvPr/>
          </p:nvSpPr>
          <p:spPr>
            <a:xfrm>
              <a:off x="4724640" y="1599840"/>
              <a:ext cx="4051080" cy="1371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dd3d7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أساليب التحليل المالي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71692"/>
            <p:cNvSpPr/>
            <p:nvPr/>
          </p:nvSpPr>
          <p:spPr>
            <a:xfrm>
              <a:off x="1905120" y="3581280"/>
              <a:ext cx="3071880" cy="55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لتحليل الأفق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71693"/>
            <p:cNvSpPr/>
            <p:nvPr/>
          </p:nvSpPr>
          <p:spPr>
            <a:xfrm>
              <a:off x="1905120" y="4419360"/>
              <a:ext cx="3071880" cy="5558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لتحليل الرأس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71694"/>
            <p:cNvSpPr/>
            <p:nvPr/>
          </p:nvSpPr>
          <p:spPr>
            <a:xfrm>
              <a:off x="1905120" y="5235480"/>
              <a:ext cx="3071880" cy="55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لتحليل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باستخدام النسب المال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تحليل الرأسي ( الطولي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حليل أي قائمة من القوائم المالية في مدة واحد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  <a:cs typeface="Arabic Transparent"/>
              </a:rPr>
              <a:t>يتم ذلك عن طريق مقارنة البنود التفصيلية بإجمالي البنود حتى يمكن معرفة قيمة كل بند من البنود بالنسبة لإجمالي البنو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09480" y="3505320"/>
          <a:ext cx="8077320" cy="2819160"/>
        </p:xfrm>
        <a:graphic>
          <a:graphicData uri="http://schemas.openxmlformats.org/drawingml/2006/table">
            <a:tbl>
              <a:tblPr/>
              <a:tblGrid>
                <a:gridCol w="1752840"/>
                <a:gridCol w="2057400"/>
                <a:gridCol w="4267080"/>
              </a:tblGrid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Arabic Transparent"/>
                        </a:rPr>
                        <a:t>النسب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abic Transparent"/>
                        </a:rPr>
                        <a:t>2006</a:t>
                      </a:r>
                      <a:r>
                        <a:rPr b="1" lang="hi-IN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Arabic Transparent"/>
                        </a:rPr>
                        <a:t>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"/>
                      <a:stretch/>
                    </a:blipFill>
                  </a:tcPr>
                </a:tc>
              </a:tr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0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4.070.4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صافي الايراد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stretch/>
                    </a:blipFill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8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3.374.39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تكلفة الايرادات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stretch/>
                    </a:blipFill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696.0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4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مجمل الرب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stretch/>
                    </a:blipFill>
                  </a:tcPr>
                </a:tc>
              </a:tr>
            </a:tbl>
          </a:graphicData>
        </a:graphic>
      </p:graphicFrame>
    </p:spTree>
  </p:cSld>
  <p:transition spd="slow">
    <p:pull dir="l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تحليل الأفقي ( العرضي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عبارة عن مقارنة الأرقام الفعلية للقوائم المالية على مدار عدد من السن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هدف: معرفة التغيرات في كل بند من البنود سواء كان بالزيادة أو بالنقصان مما يساعد على دراسة اتجاهات التغير في البنود وبيان ذلك الأثر على نشاط المشرو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2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ثال في التحليل الأفقي ( العرضي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600200"/>
          <a:ext cx="8229600" cy="4843440"/>
        </p:xfrm>
        <a:graphic>
          <a:graphicData uri="http://schemas.openxmlformats.org/drawingml/2006/table">
            <a:tbl>
              <a:tblPr/>
              <a:tblGrid>
                <a:gridCol w="2362320"/>
                <a:gridCol w="3200400"/>
                <a:gridCol w="2666880"/>
              </a:tblGrid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2005</a:t>
                      </a:r>
                      <a:r>
                        <a:rPr b="1" lang="hi-IN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2006</a:t>
                      </a:r>
                      <a:r>
                        <a:rPr b="1" lang="hi-IN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"/>
                      <a:stretch/>
                    </a:blipFill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64.63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70.479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صافي الايرادات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stretch/>
                    </a:blipFill>
                  </a:tcPr>
                </a:tc>
              </a:tr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46.772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74.392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تكلفة الايرادات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stretch/>
                    </a:blipFill>
                  </a:tcPr>
                </a:tc>
              </a:tr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7.858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6.087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جمل الربح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stretch/>
                    </a:blipFill>
                  </a:tcPr>
                </a:tc>
              </a:tr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مصروفات: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stretch/>
                    </a:blipFill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4.572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6.830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صروفات بيع وتسويق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stretch/>
                    </a:blipFill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7.860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.806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صروفات عمومية وإدارية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5"/>
                      <a:stretch/>
                    </a:blipFill>
                  </a:tcPr>
                </a:tc>
              </a:tr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2.432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9.636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مجموع المصروفات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7"/>
                      <a:stretch/>
                    </a:blipFill>
                  </a:tcPr>
                </a:tc>
              </a:tr>
              <a:tr h="44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.42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.45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دخل من العمليات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9"/>
                      <a:stretch/>
                    </a:blipFill>
                  </a:tcPr>
                </a:tc>
              </a:tr>
            </a:tbl>
          </a:graphicData>
        </a:graphic>
      </p:graphicFrame>
    </p:spTree>
  </p:cSld>
  <p:transition spd="slow">
    <p:pull dir="l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نسب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36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ستخدم النسب المالية لقياس الحجم النسبي لأي عدد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أهم النسب المال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ربح السه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كرر الأرباح ( مكرر أو مضاعف الربحية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نسبة رأس المال الى إجمالي الاحتياطيات والأرباح المبقا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عدل العائد على حقوق المساهمي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-53604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عدل العائد على الأصو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604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2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2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2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2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2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2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20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2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20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2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20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ربح السه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كيفية الوصول الى ربحية السهم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إن اشهر طريقة لتقييم أي شركة من الشركات هي معرفة ارباح هذه الشرك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487692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حيث أن الربحية تعد من المؤشرات الدالة على مدى قوة وكفاءة الشركة في استغلال الموارد المتاحة لها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7200" y="3613320"/>
          <a:ext cx="8381880" cy="1155600"/>
        </p:xfrm>
        <a:graphic>
          <a:graphicData uri="http://schemas.openxmlformats.org/drawingml/2006/table">
            <a:tbl>
              <a:tblPr/>
              <a:tblGrid>
                <a:gridCol w="5743440"/>
                <a:gridCol w="263844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صافي ربح الشرك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ربح السهم</a:t>
                      </a:r>
                      <a:r>
                        <a:rPr b="0" lang="en-US" sz="3200" spc="-1" strike="noStrike">
                          <a:solidFill>
                            <a:srgbClr val="990000"/>
                          </a:solidFill>
                          <a:latin typeface="Arial"/>
                          <a:ea typeface="Arabic Transparent"/>
                        </a:rPr>
                        <a:t>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عدد السهم المصدر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pull dir="l"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5" dur="1000" autoRev="1" fill="hold"/>
                                        <p:tgtEl>
                                          <p:spTgt spid="1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كرر الأرباح ( مكرر أو مضاعف الربحية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1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كثير ما يتداول مصطلح مكرر الارباح للسهم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وهو ربط سعر السهم السوقي الى ربحية السهم وذلك للوصول الى عدد السنوات اللازمة لاسترداد القيمة السوقية للسه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4920" y="3429000"/>
            <a:ext cx="83818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1080" indent="-1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نخفاض مكرر الارباح يدل على انخفاض عدد السنوات اللازمة لاسترداد القيمة السوقية للسهم والعكس صحي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كرر الارباح متدني مؤشر جيد للشراء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كرر الارباح مرتفع فرصة للبي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-10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2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2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2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تقارير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3059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lnSpc>
                <a:spcPct val="1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هي المنتج النهائي الذي يصدر في نهاية السنة أو الفترة المالية للنظام المحاسبي، ويشتمل على معلومات مالية وغير مالية التي تعتبر إحدى وسائل توصيل المعلومات للأطراف ذات العلاق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عادلة مكرر الاربا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8080" y="3657600"/>
            <a:ext cx="73915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ثال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ربحية السهم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1.2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ري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قيمة السوقية للسهم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12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ريا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</a:t>
            </a: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مكرر الارباح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9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abic Transparent"/>
              </a:rPr>
              <a:t> سن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1905120"/>
          <a:ext cx="8229600" cy="1155600"/>
        </p:xfrm>
        <a:graphic>
          <a:graphicData uri="http://schemas.openxmlformats.org/drawingml/2006/table">
            <a:tbl>
              <a:tblPr/>
              <a:tblGrid>
                <a:gridCol w="5638680"/>
                <a:gridCol w="25909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  <a:cs typeface="Arabic Transparent"/>
                        </a:rPr>
                        <a:t>السعر السوقي</a:t>
                      </a:r>
                      <a:r>
                        <a:rPr b="1" lang="en-US" sz="2400" spc="-1" strike="noStrike">
                          <a:solidFill>
                            <a:srgbClr val="00ff00"/>
                          </a:solidFill>
                          <a:latin typeface="Times New Roman"/>
                          <a:ea typeface="Arabic Transparent"/>
                        </a:rPr>
                        <a:t> </a:t>
                      </a: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  <a:cs typeface="Arabic Transparent"/>
                        </a:rPr>
                        <a:t>للسه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  <a:cs typeface="Arabic Transparent"/>
                        </a:rPr>
                        <a:t>مكرر الأرباح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990000"/>
                          </a:solidFill>
                          <a:latin typeface="Arial"/>
                          <a:cs typeface="Arabic Transparent"/>
                        </a:rPr>
                        <a:t>نصيب السهم من الأرباح المحقق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 spd="slow">
    <p:pull dir="l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6" dur="1000" autoRev="1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نسبة رأس المال الى إجمالي الاحتياطيات والأرباح المبقا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10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مؤشرات لزيادة رأس المال عن طريق منحة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0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لمعرفة ما تنويه الشركة لزيادة رأس المال عن طريق منحة يجب التحقق من قيمة الارباح المبقاة والاحتياطيات فهما البندان الاساسيان لمعرفة مقدرة الشركة لزيادة رأس المال عن طريق منح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838080" y="457200"/>
            <a:ext cx="708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جزء من قائمة المركز المال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494000"/>
          <a:ext cx="7848360" cy="4763880"/>
        </p:xfrm>
        <a:graphic>
          <a:graphicData uri="http://schemas.openxmlformats.org/drawingml/2006/table">
            <a:tbl>
              <a:tblPr/>
              <a:tblGrid>
                <a:gridCol w="216000"/>
                <a:gridCol w="1681920"/>
                <a:gridCol w="216000"/>
                <a:gridCol w="1505880"/>
                <a:gridCol w="4228560"/>
              </a:tblGrid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abic Transparent"/>
                        </a:rPr>
                        <a:t>2005</a:t>
                      </a:r>
                      <a:r>
                        <a:rPr b="1" lang="hi-IN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Arabic Transparent"/>
                        </a:rPr>
                        <a:t>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abic Transparent"/>
                        </a:rPr>
                        <a:t>2006</a:t>
                      </a:r>
                      <a:r>
                        <a:rPr b="1" lang="hi-IN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Arabic Transparent"/>
                        </a:rPr>
                        <a:t>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حقوق المساهمين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.250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3.000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7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رأس المال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9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900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9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حتياطي علاوة إصدار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394.63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0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514.849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حتياطي نظامي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254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4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حتياطي عا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69.659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4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5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رباح غير محققة عن استثمارات متاحة للبيع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58.919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6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(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06.452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17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تسويات تحويل عملات اجنبية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96.13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8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.135.86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9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رباح مبقاة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2.114.504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20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5.448.26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blipFill rotWithShape="0">
                      <a:blip r:embed="rId21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مجموع حقوق المساهمين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</p:spTree>
  </p:cSld>
  <p:transition spd="slow">
    <p:pull dir="l"/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سهم لكل ثلاثة أسه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33520" y="1600200"/>
          <a:ext cx="8153280" cy="1339920"/>
        </p:xfrm>
        <a:graphic>
          <a:graphicData uri="http://schemas.openxmlformats.org/drawingml/2006/table">
            <a:tbl>
              <a:tblPr/>
              <a:tblGrid>
                <a:gridCol w="484200"/>
                <a:gridCol w="1842840"/>
                <a:gridCol w="5826240"/>
              </a:tblGrid>
              <a:tr h="45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abic Transparent"/>
                        </a:rPr>
                        <a:t>2006</a:t>
                      </a:r>
                      <a:r>
                        <a:rPr b="1" lang="hi-IN" sz="23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cs typeface="Arabic Transparent"/>
                        </a:rPr>
                        <a:t>م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c9e7e9"/>
                        </a:gs>
                        <a:gs pos="100000">
                          <a:srgbClr val="ffffff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3.000.000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2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رأس المال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  <a:ea typeface="Arabic Transparent"/>
                        </a:rPr>
                        <a:t>1.135.866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blipFill rotWithShape="0">
                      <a:blip r:embed="rId3"/>
                      <a:stretch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300" spc="-1" strike="noStrike">
                          <a:solidFill>
                            <a:srgbClr val="000000"/>
                          </a:solidFill>
                          <a:latin typeface="Arial"/>
                          <a:cs typeface="Arabic Transparent"/>
                        </a:rPr>
                        <a:t>ارباح مبقاة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e1f2f3"/>
                        </a:gs>
                      </a:gsLst>
                      <a:lin ang="8100000"/>
                    </a:gradFill>
                  </a:tcPr>
                </a:tc>
              </a:tr>
            </a:tbl>
          </a:graphicData>
        </a:graphic>
      </p:graphicFrame>
      <p:sp>
        <p:nvSpPr>
          <p:cNvPr id="122" name=""/>
          <p:cNvSpPr/>
          <p:nvPr/>
        </p:nvSpPr>
        <p:spPr>
          <a:xfrm>
            <a:off x="762120" y="3746520"/>
            <a:ext cx="77724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يتضح أن الشركة لديها الإمكانية أن تمنح سهم مجاني لكل ثلاثة أسهم فيصبح رأس المال أربعة مليار ريا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3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3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عدل العائد على حقوق المساهمي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1536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يقيس معدل العائد على حقوق المساهمين نسبة ربح الشركة الى حجم حقوق المساهمين فيها.ويحتسب بقسمة صافي دخل الشركة على إجمالي حقوق المساهمين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04920" y="3200400"/>
          <a:ext cx="8229600" cy="1295280"/>
        </p:xfrm>
        <a:graphic>
          <a:graphicData uri="http://schemas.openxmlformats.org/drawingml/2006/table">
            <a:tbl>
              <a:tblPr/>
              <a:tblGrid>
                <a:gridCol w="3352680"/>
                <a:gridCol w="487692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صافي الدخ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معدل العائد على حقوق المساهمين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حقوق المساهمي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457200" y="518148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رتفاع معدل العائد على حقوق المساهمين يدل على قوة أداء الشرك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2000"/>
                            </p:stCondLst>
                            <p:childTnLst>
                              <p:par>
                                <p:cTn id="64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5" dur="1000" autoRev="1" fill="hold"/>
                                        <p:tgtEl>
                                          <p:spTgt spid="1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عدل العائد على الاصو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153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يمكن لمعدل العائد على الاصول أن يقدم للمستثمر فكرة حول أداء إدارة واستثمار الشركة لأصولها أو موجوداتها. ويمكن احتساب معدل العائد على الاصول كما في المعادلة التالي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33520" y="3581280"/>
          <a:ext cx="8153280" cy="1219320"/>
        </p:xfrm>
        <a:graphic>
          <a:graphicData uri="http://schemas.openxmlformats.org/drawingml/2006/table">
            <a:tbl>
              <a:tblPr/>
              <a:tblGrid>
                <a:gridCol w="4114800"/>
                <a:gridCol w="403848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صافي الدخ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معدل العائد على الاصول =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3200" spc="-1" strike="noStrike">
                          <a:solidFill>
                            <a:srgbClr val="800000"/>
                          </a:solidFill>
                          <a:latin typeface="Arial"/>
                          <a:cs typeface="Arabic Transparent"/>
                        </a:rPr>
                        <a:t>متوسط إجمالي الاصو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0" name=""/>
          <p:cNvSpPr/>
          <p:nvPr/>
        </p:nvSpPr>
        <p:spPr>
          <a:xfrm>
            <a:off x="228600" y="52578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رتفاع معدل العائد على الاصول يدل على كفاءة إدارة واستثمار الشركة لأصولها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2000"/>
                            </p:stCondLst>
                            <p:childTnLst>
                              <p:par>
                                <p:cTn id="67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3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4" dur="1000" autoRev="1" fill="hold"/>
                                        <p:tgtEl>
                                          <p:spTgt spid="1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114800" y="762120"/>
            <a:ext cx="4114800" cy="1143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400" y="2160"/>
                </a:moveTo>
                <a:lnTo>
                  <a:pt x="-6833" y="2160"/>
                </a:lnTo>
                <a:lnTo>
                  <a:pt x="-6833" y="32580"/>
                </a:lnTo>
                <a:lnTo>
                  <a:pt x="2908" y="59040"/>
                </a:lnTo>
              </a:path>
            </a:pathLst>
          </a:cu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800000"/>
                </a:solidFill>
                <a:latin typeface="Arial"/>
                <a:cs typeface="Arabic Transparent"/>
              </a:rPr>
              <a:t>نصيحة عام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3809880"/>
            <a:ext cx="8229600" cy="2514600"/>
          </a:xfrm>
          <a:prstGeom prst="flowChartPunchedTape">
            <a:avLst/>
          </a:prstGeom>
          <a:noFill/>
          <a:ln w="9360">
            <a:solidFill>
              <a:srgbClr val="0000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105262"/>
                </a:solidFill>
                <a:latin typeface="Arial"/>
              </a:rPr>
              <a:t>أعطي الخبز خبازه حتى لو أخذ نصف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88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89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0" dur="1000" autoRev="1" fill="hold">
                                          <p:stCondLst>
                                            <p:cond delay="300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2057400" y="228600"/>
            <a:ext cx="51055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87032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533668" dir="5318826" blurRad="0" rotWithShape="0">
                    <a:srgbClr val="dddddd">
                      <a:alpha val="50000"/>
                    </a:srgbClr>
                  </a:outerShdw>
                </a:effectLst>
                <a:latin typeface="Arabic Transparent"/>
              </a:rPr>
              <a:t>وأخيراً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533668" dir="5318826" blurRad="0" rotWithShape="0">
                  <a:srgbClr val="dddddd">
                    <a:alpha val="5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2362320"/>
            <a:ext cx="8686800" cy="3047760"/>
          </a:xfrm>
          <a:prstGeom prst="flowChartOnlineStorag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</a:rPr>
              <a:t>نشكر لكم حسن استماعكم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800" spc="-1" strike="noStrike">
                <a:solidFill>
                  <a:srgbClr val="000000"/>
                </a:solidFill>
                <a:latin typeface="Arial"/>
              </a:rPr>
              <a:t>ونتمنى لكم التوفيق في رحلة مع الاسهم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5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0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1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6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7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8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9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0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1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2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3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أجزاء التقارير المالي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5800" y="2057400"/>
            <a:ext cx="7772400" cy="2300400"/>
            <a:chOff x="685800" y="2057400"/>
            <a:chExt cx="7772400" cy="2300400"/>
          </a:xfrm>
        </p:grpSpPr>
        <p:cxnSp>
          <p:nvCxnSpPr>
            <p:cNvPr id="48" name="_s31750"/>
            <p:cNvCxnSpPr>
              <a:stCxn id="49" idx="0"/>
              <a:endCxn id="50" idx="2"/>
            </p:cNvCxnSpPr>
            <p:nvPr/>
          </p:nvCxnSpPr>
          <p:spPr>
            <a:xfrm flipV="1" rot="16200000">
              <a:off x="5600520" y="2056680"/>
              <a:ext cx="876960" cy="2782080"/>
            </a:xfrm>
            <a:prstGeom prst="bentConnector3">
              <a:avLst>
                <a:gd name="adj1" fmla="val 13018"/>
              </a:avLst>
            </a:prstGeom>
            <a:ln w="28440">
              <a:solidFill>
                <a:srgbClr val="41989f"/>
              </a:solidFill>
              <a:miter/>
            </a:ln>
          </p:spPr>
        </p:cxnSp>
        <p:cxnSp>
          <p:nvCxnSpPr>
            <p:cNvPr id="51" name="_s31751"/>
            <p:cNvCxnSpPr>
              <a:stCxn id="52" idx="0"/>
              <a:endCxn id="50" idx="2"/>
            </p:cNvCxnSpPr>
            <p:nvPr/>
          </p:nvCxnSpPr>
          <p:spPr>
            <a:xfrm flipH="1" flipV="1" rot="5400000">
              <a:off x="4188240" y="3431160"/>
              <a:ext cx="882000" cy="38880"/>
            </a:xfrm>
            <a:prstGeom prst="bentConnector3">
              <a:avLst>
                <a:gd name="adj1" fmla="val 1294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" name="_s31752"/>
            <p:cNvCxnSpPr>
              <a:stCxn id="54" idx="0"/>
              <a:endCxn id="50" idx="2"/>
            </p:cNvCxnSpPr>
            <p:nvPr/>
          </p:nvCxnSpPr>
          <p:spPr>
            <a:xfrm flipH="1" flipV="1" rot="5400000">
              <a:off x="2730960" y="1973880"/>
              <a:ext cx="882000" cy="2953440"/>
            </a:xfrm>
            <a:prstGeom prst="bentConnector3">
              <a:avLst>
                <a:gd name="adj1" fmla="val 12944"/>
              </a:avLst>
            </a:prstGeom>
            <a:ln w="28440">
              <a:solidFill>
                <a:srgbClr val="41989f"/>
              </a:solidFill>
              <a:miter/>
            </a:ln>
          </p:spPr>
        </p:cxnSp>
        <p:sp>
          <p:nvSpPr>
            <p:cNvPr id="50" name="_s31753"/>
            <p:cNvSpPr/>
            <p:nvPr/>
          </p:nvSpPr>
          <p:spPr>
            <a:xfrm>
              <a:off x="3124440" y="2057400"/>
              <a:ext cx="3047760" cy="914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8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التقارير المالية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31754"/>
            <p:cNvSpPr/>
            <p:nvPr/>
          </p:nvSpPr>
          <p:spPr>
            <a:xfrm>
              <a:off x="685800" y="3900600"/>
              <a:ext cx="201924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تقرير المراج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31755"/>
            <p:cNvSpPr/>
            <p:nvPr/>
          </p:nvSpPr>
          <p:spPr>
            <a:xfrm>
              <a:off x="3543480" y="3900600"/>
              <a:ext cx="213336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تقرير مجلس الإدار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31756"/>
            <p:cNvSpPr/>
            <p:nvPr/>
          </p:nvSpPr>
          <p:spPr>
            <a:xfrm>
              <a:off x="6400800" y="3886200"/>
              <a:ext cx="205740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قوائم مال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800000"/>
                </a:solidFill>
                <a:latin typeface="Arial"/>
                <a:cs typeface="Arabic Transparent"/>
              </a:rPr>
              <a:t>لغز صعب تفسير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905120"/>
            <a:ext cx="8153280" cy="32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algn="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بدو القوائم المالية لغير المتخصصين من الوهلة الأولى أنها لغز كبير وذلك لأنها تحتوي على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كثير من الأرقا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" algn="r" rtl="1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قليل من الألفا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04920"/>
            <a:ext cx="5333760" cy="1066680"/>
          </a:xfrm>
          <a:prstGeom prst="wedgeEllipseCallout">
            <a:avLst>
              <a:gd name="adj1" fmla="val 53837"/>
              <a:gd name="adj2" fmla="val 97620"/>
            </a:avLst>
          </a:prstGeom>
          <a:noFill/>
          <a:ln w="9360">
            <a:solidFill>
              <a:srgbClr val="6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6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6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6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القوائم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86108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54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عتبر القوائم المالية أهم جزء من أجزاء التقارير المالية وتمثل المصدر الرئيسي للمعلومات التاريخية عن نتيجة نشاط المشروع خلال الفترة المالية السابق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276720"/>
            <a:ext cx="8763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192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صدر الشركات المساهمة قوائم مالية غير مدققة كل ثلاثة أشهر وتسم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43000" y="492120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990000"/>
                </a:solidFill>
                <a:latin typeface="Arial"/>
                <a:cs typeface="Arabic Transparent"/>
              </a:rPr>
              <a:t>بالتقارير ربع السنو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400"/>
                            </p:stCondLst>
                            <p:childTnLst>
                              <p:par>
                                <p:cTn id="140" nodeType="afterEffect" fill="hold" presetClass="emph" presetID="2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4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2" dur="1000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مكونات القوائم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2438280" y="1371600"/>
            <a:ext cx="6195960" cy="5104800"/>
            <a:chOff x="2438280" y="1371600"/>
            <a:chExt cx="6195960" cy="5104800"/>
          </a:xfrm>
        </p:grpSpPr>
        <p:cxnSp>
          <p:nvCxnSpPr>
            <p:cNvPr id="64" name="_s33823"/>
            <p:cNvCxnSpPr>
              <a:stCxn id="65" idx="3"/>
              <a:endCxn id="66" idx="2"/>
            </p:cNvCxnSpPr>
            <p:nvPr/>
          </p:nvCxnSpPr>
          <p:spPr>
            <a:xfrm flipV="1">
              <a:off x="5509800" y="2780640"/>
              <a:ext cx="1703880" cy="3418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" name="_s33821"/>
            <p:cNvCxnSpPr>
              <a:stCxn id="68" idx="3"/>
              <a:endCxn id="66" idx="2"/>
            </p:cNvCxnSpPr>
            <p:nvPr/>
          </p:nvCxnSpPr>
          <p:spPr>
            <a:xfrm flipV="1">
              <a:off x="5509800" y="2780280"/>
              <a:ext cx="1703880" cy="2656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9" name="_s33818"/>
            <p:cNvCxnSpPr>
              <a:stCxn id="70" idx="3"/>
              <a:endCxn id="66" idx="2"/>
            </p:cNvCxnSpPr>
            <p:nvPr/>
          </p:nvCxnSpPr>
          <p:spPr>
            <a:xfrm flipV="1">
              <a:off x="5509800" y="2780640"/>
              <a:ext cx="1703880" cy="1894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1" name="_s33817"/>
            <p:cNvCxnSpPr>
              <a:stCxn id="72" idx="3"/>
              <a:endCxn id="66" idx="2"/>
            </p:cNvCxnSpPr>
            <p:nvPr/>
          </p:nvCxnSpPr>
          <p:spPr>
            <a:xfrm flipV="1">
              <a:off x="5509800" y="2780280"/>
              <a:ext cx="1703880" cy="1208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3" name="_s33816"/>
            <p:cNvCxnSpPr>
              <a:stCxn id="74" idx="3"/>
              <a:endCxn id="66" idx="2"/>
            </p:cNvCxnSpPr>
            <p:nvPr/>
          </p:nvCxnSpPr>
          <p:spPr>
            <a:xfrm flipV="1">
              <a:off x="5509800" y="2780280"/>
              <a:ext cx="1703880" cy="446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6" name="_s33812"/>
            <p:cNvSpPr/>
            <p:nvPr/>
          </p:nvSpPr>
          <p:spPr>
            <a:xfrm>
              <a:off x="5790960" y="1371600"/>
              <a:ext cx="2843280" cy="1371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dd3d7"/>
                </a:gs>
              </a:gsLst>
              <a:path path="rect">
                <a:fillToRect l="50000" t="50000" r="50000" b="50000"/>
              </a:path>
            </a:gradFill>
            <a:ln w="7632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400" spc="-1" strike="noStrike">
                  <a:solidFill>
                    <a:srgbClr val="000000"/>
                  </a:solidFill>
                  <a:latin typeface="Arial"/>
                  <a:cs typeface="Arabic Transparent"/>
                </a:rPr>
                <a:t>مكونات القوائم المالي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33813"/>
            <p:cNvSpPr/>
            <p:nvPr/>
          </p:nvSpPr>
          <p:spPr>
            <a:xfrm>
              <a:off x="2438280" y="2949480"/>
              <a:ext cx="3071880" cy="555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قائمة المركز المالي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33814"/>
            <p:cNvSpPr/>
            <p:nvPr/>
          </p:nvSpPr>
          <p:spPr>
            <a:xfrm>
              <a:off x="2438280" y="3711240"/>
              <a:ext cx="3071880" cy="55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قائمة الدخل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33815"/>
            <p:cNvSpPr/>
            <p:nvPr/>
          </p:nvSpPr>
          <p:spPr>
            <a:xfrm>
              <a:off x="2438280" y="4397040"/>
              <a:ext cx="3071880" cy="55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0840" rIns="60840" tIns="30600" bIns="306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قائمة التدفقات النقدي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33820"/>
            <p:cNvSpPr/>
            <p:nvPr/>
          </p:nvSpPr>
          <p:spPr>
            <a:xfrm>
              <a:off x="2438280" y="5159160"/>
              <a:ext cx="3071880" cy="5554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قائمة الارباح المبقا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33822"/>
            <p:cNvSpPr/>
            <p:nvPr/>
          </p:nvSpPr>
          <p:spPr>
            <a:xfrm>
              <a:off x="2438280" y="5921280"/>
              <a:ext cx="3071880" cy="555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1f2f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198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i-IN" sz="2000" spc="-1" strike="noStrike">
                  <a:solidFill>
                    <a:srgbClr val="000000"/>
                  </a:solidFill>
                  <a:latin typeface="Arial"/>
                </a:rPr>
                <a:t>ايضاحا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أهداف القوائم المال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قديم معلومات بنتيجة العمليات التي قام بها المشروع خلال فترة معينة ( قائمة الدخل 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قديم معلومات ببيان ما لشركة من أصول وما عليها من التزامات في لحظة معينة ( قائمة المركز المالي 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r" rtl="1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وفير البيانات والمعلومات المحاسبية للمستفيدين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قائمة المركز المال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5640" indent="0" algn="r" rtl="1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توضح قائمة المركز المالي ما للشركة من الأصول وما عليها من الالتزامات في لحظة معينة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640" indent="-3564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الأصول حيث تشير الى موجودات ( ممتلكات ) الشركة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640" indent="-35640" algn="r" rtl="1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خصوم وحقوق المساهمين تشير الى ما على الشركة من الالتزامات سواء للملاك أو للدائني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99"/>
                </a:solidFill>
                <a:latin typeface="Arial"/>
                <a:cs typeface="Arabic Transparent"/>
              </a:rPr>
              <a:t>قائمة الدخ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40" indent="-1440" algn="r" rtl="1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عبارة عن بيان مالي لنتائج الشركة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440" indent="-1440" algn="r" rtl="1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Arial"/>
                <a:cs typeface="Arabic Transparent"/>
              </a:rPr>
              <a:t>وتعبر عن مدى نجاح الشركة في توظيف الاصول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9T08:29:59Z</dcterms:created>
  <dc:creator>office</dc:creator>
  <dc:description/>
  <dc:language>en-US</dc:language>
  <cp:lastModifiedBy>Muhammad AlBaghdadi</cp:lastModifiedBy>
  <dcterms:modified xsi:type="dcterms:W3CDTF">2006-12-02T22:48:19Z</dcterms:modified>
  <cp:revision>73</cp:revision>
  <dc:subject/>
  <dc:title>التقارير المالية</dc:title>
</cp:coreProperties>
</file>