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C002-4222-41F3-866C-7D21E57A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EF15-C017-427B-9F89-6B78706A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4FF1B-9950-4556-8D99-62C45216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3E2F1-872D-4996-BA60-98586812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10F05-EFA2-4590-AA06-1388E944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8A7AD-6C2A-459B-8C26-ECD47C58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84B07-C82D-4C3B-8BAA-DABCFF46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52CEB-C165-4358-B243-6ABAC156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0A691-E3EA-4306-AF72-DCD00680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C3353-BFDD-49EB-A3D0-299E9574A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C9B58-645C-443F-AF1D-E2102ABF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13E02-E252-4514-9E20-802B0A500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9A45-0539-4A26-93C5-ABF7DEF8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2DDAC-1420-4345-A830-F3C06729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029BA-E151-4B67-AC7B-243C39F7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408E5-08BE-4651-8520-E5EBFF09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9E82D-B2E0-40D8-8E9E-0DB0A98E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CE0D1-0B76-4D6A-A453-196DBE65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47521F-D42C-447B-8F5D-EAC73205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C1A58-5EF6-4450-B379-C76B25D7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E9CA8-C412-4200-90ED-BE8B9BEB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6F411-D6D0-461C-B2A2-1DC24A07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915F7B-5DAC-4489-AC13-679836734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CCE1-734A-4669-B45D-790D602AC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F0E6A-30EA-47BA-8F7B-45B9E6812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B48C7-31F7-408C-828C-066A26848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EEB30-1266-49B2-B664-B5EABD1B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5D5B2-1D70-4E29-A462-211A9E17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9DB32-A77A-42D7-BC00-019ED765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3ABFA-BC1E-4BDF-B4FB-54C0EF00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0D3FA-1D25-4113-8EA0-88B81A74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30F28-EE63-4FD6-A68A-9B1C0346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4822-4942-4A77-B922-EC1FA257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8E42F-7ECE-4FD6-BD57-0BFAEF08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6DE4F-B3A2-479B-BE97-86EE8C6B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98826-5C04-4A81-9B2B-89DBAD5E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AFE8D-AEA1-4D03-862F-628DD21B6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2D9F7-5918-41B0-9044-4A518187B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AC864-CE8A-4481-931F-FCA18BCF4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FB672-417C-422A-B753-BFA7A932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0378C-C87E-4508-8563-5AB24A58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70334-999D-4795-92D9-2A7CBA29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D376E-C5BD-4214-8AE5-DC77ACDB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F264-0BA2-47EF-91F8-34C6E360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978F0-1DCB-40E5-8B3E-5596D03F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6F885-3DAA-4710-9A97-C30DB93F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25464-0593-4D65-9FC9-6E0FDC56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7756B-CECA-4E93-A431-18B191BF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A0350-09DB-4B02-9C2D-64124F16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FFAF8-4684-4078-A72E-FF3F7E91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65E93-E9E3-474D-B61D-207360B07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75268-1342-4A39-8387-78479E7D6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385A7-AB41-4388-9359-5DF4C775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F3072-317C-4BA9-8691-832F3172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53BF-D66C-42C7-91A6-D87D737F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0AFDE-53B9-444F-B7E7-C4CD9842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465C0-2C8E-43DF-BE0F-80464007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4AA74-54FD-4E28-84FF-F789842D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AF906-ABA8-4D9F-BB40-FF4141BF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0D00F-02AA-4308-A617-500CAF56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1C59C-AA9A-43A6-948F-2FDE43FF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4CCE2-1A71-4312-9653-91D66FAA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756E4-2F8C-4389-A1D8-F37DF596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92DC5-7970-4150-950E-ABB660FC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E7600-C523-4406-B51F-782A3184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BDB3-AE8D-4481-87B5-BDCF243F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A19C4-7EAD-44B0-BD8E-FAD769A2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F527C-014F-46B1-81DC-D9985C9B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DE284-CB42-4D7F-8754-0ABBFE61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F87EC-6329-423D-B646-73EB6F85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0FD26-036E-4391-BDF8-65D32168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3FE25-D374-4D88-B7E6-9B120C99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3EF93-E731-4895-AB2C-332D834A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39A21-CC95-40EA-B48B-E621CDDB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7ADB7-A04B-4288-BD25-EF780071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8C069-10A9-43DC-8FB0-B42AD5E0E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079A-16B1-41EF-BA04-E62FAAD2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2BC18-25EE-4410-A009-97CFFF07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4220C-CD70-48BF-B8EE-815AF1FE6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1D2E6-0D8A-4B00-B339-95FE491D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A57B0-6552-41AA-8B5E-FC6A2165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CEDDC-08DF-4159-BC1D-0EC5F0E9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B62C7-EA50-4673-8E47-E5089583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128F3-665F-418A-96E2-B1EA8F23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20B05-B0B6-4780-A8C3-D420FB25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0E9A0-6C46-4D9C-ACD5-581DF142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8BE03-8889-44AB-B521-B4538A8C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56F2-71A4-435A-8D61-6C909D61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137A1-CF0C-41D1-A7DF-83C7672D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6B989-28DE-454B-AE84-19243E64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FBD73-657D-4805-92CC-79E9198C9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6BAD6-3618-4B08-93D8-DF0F2EF9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2CBDB-2B5A-4711-B208-922ABB65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AB8BF-7BCB-4C40-8AB7-D054834F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71489-3CFF-4A3E-96BA-C21E46F8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3B1BB-AEF5-4A02-8A11-38147389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5964F-CAC0-4140-BE19-E00D31B7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0317D-2735-4E10-AB65-B7706CF4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CF7D-4868-4F27-B2D6-0A8E8FE8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1A18C-E037-4B9E-BCAF-383CE12E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E4076-C7FC-4B21-A2BC-8A7903B9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144B8-191B-47D0-8557-B97D529C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508B2-8236-4D52-8693-6CF09D650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3A545-E840-484E-AA94-E8685DCD7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3A6D4-C019-4681-A907-7C4E3EC9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92E33-1A3F-4876-9A27-B711A314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C5BFF-CC4B-49B1-B9E0-4E9E1D59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9924C-76A2-4A10-9DDE-6BF5B3BF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F4DE5-EDEB-401E-A5CA-FE6C9A95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D2F6-6652-493D-9135-5BF7316B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4B90F-A8D2-4632-B480-5E01F76D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EEA0B-BAA8-45A9-9AEB-F5A0F721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AC0E0-EEA2-4AA9-8ADA-A26210D3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43224-47BF-4FEE-9683-118A6C9D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A1B4F-CF85-4602-BD33-38D2FA1E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F0A6A-7B4E-49EE-8428-C71583B2D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DE8D0-6843-48D2-9B26-0F2B521D2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0D3F8-0150-4339-9675-188C30B2E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202FD-843C-486E-849E-11D40C4F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D78F9-E350-4963-B420-5CC2FD27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2C38-EB2E-4478-BEF9-89FFA84C1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0296-EE97-41D7-A5CE-AA1D497FC2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683A-FDD8-422E-8B2D-D9E021030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F4B6-F45B-4C44-A1B8-833CC43DE46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9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596C-7A53-4DD4-978A-8C3801CCB1E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E72F-021C-4B11-93A3-7C9F64C8C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5F00-4E47-421E-BFD6-BA86D7681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54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56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1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1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ftr" idx="2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1935-D8B0-4960-8CF6-B837C2B4D88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60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62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9F20-E5FE-4BDF-BEDA-DF2C1AFF22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C2BF-EC3F-4828-BD60-21AA5E114D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كثيرات الحدود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136440" y="2724120"/>
            <a:ext cx="8893440" cy="413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77920" y="271440"/>
            <a:ext cx="8675640" cy="230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788000" y="5013360"/>
            <a:ext cx="3816360" cy="6476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716360" y="1844640"/>
            <a:ext cx="1584360" cy="576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116000" y="404640"/>
            <a:ext cx="7488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درجة كثيرة الحدود :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# - س @ + س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هي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 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خامسة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ب~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ساد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رابعة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    د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-274680" y="2852640"/>
            <a:ext cx="9144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إذا رتبنا كثيرة الحدود : س – 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#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– 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تنازليا ً تصب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 # - س@ 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~ - س# + س @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- س# - س@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د~ س# + س@ + س 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971640" y="4508640"/>
            <a:ext cx="3095640" cy="2349360"/>
          </a:xfrm>
          <a:prstGeom prst="flowChartMultidocumen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0de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4360" y="4888080"/>
            <a:ext cx="287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Verdana"/>
              </a:rPr>
              <a:t>وإلى اللقاء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39640" y="5661000"/>
            <a:ext cx="28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Verdana"/>
              </a:rPr>
              <a:t>محمد السي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1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5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1056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1057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1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1072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1073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539640" y="2276640"/>
            <a:ext cx="8353440" cy="45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9640" y="1197000"/>
            <a:ext cx="83534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076720" y="5084640"/>
            <a:ext cx="1871640" cy="865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987640" y="3141720"/>
            <a:ext cx="2160720" cy="1079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219800" y="1341360"/>
            <a:ext cx="1619280" cy="720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771640" y="42840"/>
            <a:ext cx="446436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b7f6a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340000" y="-14400"/>
            <a:ext cx="432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463416"/>
                </a:solidFill>
                <a:latin typeface="Arial"/>
              </a:rPr>
              <a:t>كثيرات الحدو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-439560" y="1268280"/>
            <a:ext cx="9396360" cy="89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تمهيد :  اختر الإجابة الصحيحة فيما يأتي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حيدة الحد فيما يلي هي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~ #؛    ب~ ذ س+ص    ج~ ذ س ص     د~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 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درجة وحيدة الحد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النسبة للمتغير 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أول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ب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ثاني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 ج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ثالثة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د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رابع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ناتج جمع 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+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361280" y="35352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971640" y="31971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Al-KsorZulfiMath"/>
              </a:rPr>
              <a:t>ذ 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1258920" y="3716280"/>
            <a:ext cx="79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971640" y="3573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152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153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441360" y="4371840"/>
            <a:ext cx="8569440" cy="24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38120" y="2674800"/>
            <a:ext cx="8569440" cy="16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6280" y="184320"/>
            <a:ext cx="8569440" cy="24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419640" y="1341360"/>
            <a:ext cx="2808000" cy="649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732800" y="4149720"/>
            <a:ext cx="1258920" cy="71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588080" y="2708280"/>
            <a:ext cx="1403640" cy="649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276720" y="1916280"/>
            <a:ext cx="1944720" cy="720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64000" y="260280"/>
            <a:ext cx="1944720" cy="6476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68360" y="270000"/>
            <a:ext cx="86756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ب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~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 @       ج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ب $        د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6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ب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rabic Transparent"/>
              </a:rPr>
              <a:t>ناتج طرح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 –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ا~  ذ ا ب    ب~ -ذ ا@ب@    ج~ - ذ ا ب     د~  ذ ا@ب@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-160200" y="2637000"/>
            <a:ext cx="9144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تعريف : كثيرة الحدود هي عبارة رياضية ناتجة عن جم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وحيدتي حد أو أكثر غير متشابهتي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أمثلة :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ص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ذ~ ذ ا@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ب@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 س# - س@  + س -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68360" y="429264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ar-SA" sz="3600" spc="-1" strike="noStrike">
                <a:solidFill>
                  <a:srgbClr val="ff3300"/>
                </a:solidFill>
                <a:latin typeface="Verdana"/>
              </a:rPr>
              <a:t>وتسمى ثنائية ح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5084640"/>
            <a:ext cx="52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       وتسمى ثلاثية 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24000" y="59500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       وتسمى رباعية حدود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340000" y="12682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كثيرات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6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582480" y="4348080"/>
            <a:ext cx="8353440" cy="250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9960" y="1927080"/>
            <a:ext cx="8353440" cy="23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39640" y="100080"/>
            <a:ext cx="83534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910640" y="4394160"/>
            <a:ext cx="1042920" cy="863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492360" y="944640"/>
            <a:ext cx="3311640" cy="936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476360" y="189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وكل منها يسمى كثيرة 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506680" y="103176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تبسيط كثيرة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190440" y="202104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تكون كثيرة الحدود غير مبسطة إذا وجد فيها على الأق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حدين متشابهين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0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مثل : 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س@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 -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تبسيطها يكون بجمع حدودها المتشابه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مثال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ذ س@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=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س@ +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=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+ ذ ب – ذ ا + ب -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4360" y="544500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س@ +ذ س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11280" y="63086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l-KsorZulfiMath"/>
              </a:rPr>
              <a:t> = ا +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l-KsorZulfiMath"/>
              </a:rPr>
              <a:t> ب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71640" y="1484280"/>
            <a:ext cx="7921440" cy="403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971640" y="260280"/>
            <a:ext cx="792144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364000" y="271440"/>
            <a:ext cx="3456000" cy="720720"/>
          </a:xfrm>
          <a:custGeom>
            <a:avLst/>
            <a:gdLst>
              <a:gd name="textAreaLeft" fmla="*/ 0 w 3456000"/>
              <a:gd name="textAreaRight" fmla="*/ 3456360 w 3456000"/>
              <a:gd name="textAreaTop" fmla="*/ 93240 h 720720"/>
              <a:gd name="textAreaBottom" fmla="*/ 6274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84160" y="260280"/>
            <a:ext cx="799308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تدريب (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40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: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حدد أيا ً من كثيرات الحدود التالية مبسطة وأيا ً منها غير مبسطة ، وبسط غير المبسط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 +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ص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ص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ب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ج~ -ذ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ص 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ص 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د~ %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- @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162864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= - ذ س +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9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84360" y="2205000"/>
            <a:ext cx="41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  مبسطة لأن حدودها مختلق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39640" y="2997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 =  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4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826920" y="3684600"/>
            <a:ext cx="4681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= %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- $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+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=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!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+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70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70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770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770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77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4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6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8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77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5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9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281160" y="3789360"/>
            <a:ext cx="8634240" cy="27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4920" y="2333520"/>
            <a:ext cx="8634240" cy="13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38040" y="1031760"/>
            <a:ext cx="8634600" cy="12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956720" y="2421000"/>
            <a:ext cx="93636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771640" y="127080"/>
            <a:ext cx="4032360" cy="8636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814480" y="14616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درجة كثيرة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19240" y="1146240"/>
            <a:ext cx="88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درجة كثيرة الحدود بالنسبة لمتغير فيها تساوي أكبر أس  لهذا المتغير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84360" y="25322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أمثلة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ذ س#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-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564000" y="2997360"/>
            <a:ext cx="503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بالنسبة للمتغير س من الدرج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93880" y="31035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0000ff"/>
                </a:solidFill>
                <a:latin typeface="Verdana"/>
              </a:rPr>
              <a:t>الثالث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203640" y="386064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س ص% + ذ س@ - س# ص@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-92160" y="3860640"/>
            <a:ext cx="450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بالنسبة للمتغير س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093080" y="4653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411280" y="4653000"/>
            <a:ext cx="46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وبالنسبة للمتغير ص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465300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الخام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835280" y="5661000"/>
            <a:ext cx="648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وبالنسبة للمتغيرين س ، ص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5640" y="5661000"/>
            <a:ext cx="165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ساد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77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2" dur="770" fill="hold"/>
                                        <p:tgtEl>
                                          <p:spTgt spid="7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4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403200" y="3789360"/>
            <a:ext cx="8604360" cy="29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812000" y="5516640"/>
            <a:ext cx="1042920" cy="576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44600" y="146160"/>
            <a:ext cx="8604000" cy="36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40360" y="3933720"/>
            <a:ext cx="2879640" cy="6476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11280" y="907920"/>
            <a:ext cx="792000" cy="5763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332000" y="836640"/>
            <a:ext cx="1152360" cy="649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627280" y="836640"/>
            <a:ext cx="1440000" cy="5763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140360" y="836640"/>
            <a:ext cx="136836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932360" y="260280"/>
            <a:ext cx="3743280" cy="576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643280" y="26028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تدريب (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) صفحة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40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11280" y="907920"/>
            <a:ext cx="8208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عين درجة كثيرة الحدود: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س$ص# 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#ص@ 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ص# 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بالنسبة للمتغير س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بالنسبة للمتغير ص من الدرج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بالنسبة للمتغيرين س ، ص من الدرج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4360" y="170028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رابع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340000" y="2492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187280" y="3141720"/>
            <a:ext cx="20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السابع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724360" y="3860640"/>
            <a:ext cx="30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ترتيب كثيرة الحدود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68360" y="4724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ترتب كثيرة الحدود حسب أس المتغيرات المكونة لحدود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41440" y="5589720"/>
            <a:ext cx="8066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مثال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ذ س$ + س# - س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11280" y="6021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مرتبة ترتيبا ً تنازليا ً لأن اس المغير س متناقص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6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1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77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7" dur="770" fill="hold"/>
                                        <p:tgtEl>
                                          <p:spTgt spid="7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9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1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77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8" dur="770" fill="hold"/>
                                        <p:tgtEl>
                                          <p:spTgt spid="7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0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2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77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9" dur="770" fill="hold"/>
                                        <p:tgtEl>
                                          <p:spTgt spid="7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1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3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77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7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9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1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4581360"/>
            <a:ext cx="9144000" cy="227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45960" y="2496960"/>
            <a:ext cx="8642520" cy="141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38160"/>
            <a:ext cx="8642160" cy="1412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995640" y="3933720"/>
            <a:ext cx="1297080" cy="647640"/>
          </a:xfrm>
          <a:prstGeom prst="ellipse">
            <a:avLst/>
          </a:prstGeom>
          <a:solidFill>
            <a:srgbClr val="00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059280" y="1484280"/>
            <a:ext cx="360036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11280" y="260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وكثيرة الحدود :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س  +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 -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# +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9640" y="836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مرتبة تصاعديا ً حسب أس المتغير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11280" y="2565360"/>
            <a:ext cx="853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بسط كثيرة الحدود التالية ثم رتبها تصاعديا ً ، وما درجتها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@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–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-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+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 -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 +ذ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  <a:cs typeface="Arabic Transparent"/>
              </a:rPr>
              <a:t>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@ +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-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843280" y="162864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تدريب (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4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438360" y="3933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الح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343640" y="444492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التبسيط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72000" y="49417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+( - 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 +ذ 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rabic Transparent"/>
              </a:rPr>
              <a:t>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804000" y="4941720"/>
            <a:ext cx="27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+ ذ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49417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+(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 – 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484360" y="494172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(-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588000" y="5516640"/>
            <a:ext cx="179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716360" y="5516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+ 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140360" y="5589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</a:t>
            </a:r>
            <a:r>
              <a:rPr b="0" lang="hi-IN" sz="3200" spc="-1" strike="noStrike">
                <a:solidFill>
                  <a:srgbClr val="0000ff"/>
                </a:solidFill>
                <a:latin typeface="Verdana"/>
                <a:cs typeface="Al-KsorZulfiMath"/>
              </a:rPr>
              <a:t>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00360" y="5516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987640" y="6278400"/>
            <a:ext cx="61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f6a8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ترتيب تصاعديا ً: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 +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+ س#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24000" y="6226200"/>
            <a:ext cx="23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الدرجة : 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9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77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5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7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9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0" y="4581360"/>
            <a:ext cx="9144000" cy="227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2962440"/>
            <a:ext cx="9144000" cy="1582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80880" y="692280"/>
            <a:ext cx="87487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1341360"/>
            <a:ext cx="9144000" cy="158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492360" y="6021360"/>
            <a:ext cx="2374920" cy="576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003640" y="3716280"/>
            <a:ext cx="2448000" cy="649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64360" y="2060640"/>
            <a:ext cx="1728720" cy="720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076720" y="0"/>
            <a:ext cx="3816360" cy="6922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932360" y="0"/>
            <a:ext cx="38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تمارين (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6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943280" y="76500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ختر الإجابة الصحيحة لكل مما يأت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00000" y="141300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ثنائية حدين من الدرجة الأولى ه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 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ب~ س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#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د~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11280" y="3141720"/>
            <a:ext cx="8532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عبارة رياضية تدعى ثلاثية حدود هي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#+ ص      ب~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- س +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ج~   !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 ب ج       د~   ؛؛؛؛؛؛؛؛؛؛؛؛؛؛؛؛؛؛؛؛؛؛؛؛؛؛؛؛؛؛؛؛؛؛؛؛؛؛؛؛؛؛؛؛؛؛؛؛؛؛؛؛؛؛؛؛؛؛؛؛؛؛؛؛؛؛؛؛؛؛؛؛؛؛؛؛؛؛؛؛؛؛؛؛؛؛؛؛؛؛؛؛؛؛؛؛؛؛؛؛؛؛؛؛؛؛؛؛؛؛؛؛؛؛؛؛؛؛؛؛؛؛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116000" y="357336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+ 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547640" y="393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258920" y="4581360"/>
            <a:ext cx="7885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كثيرة حدود في أبسط صورة ه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ص@ + ص – ص           ب~ !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 + ا# 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+ س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        د~ ا@ + ا 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7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9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9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9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6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4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2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1:14:50Z</dcterms:created>
  <dc:creator>user</dc:creator>
  <dc:description/>
  <dc:language>en-US</dc:language>
  <cp:lastModifiedBy>Windows XP</cp:lastModifiedBy>
  <dcterms:modified xsi:type="dcterms:W3CDTF">2007-06-16T21:53:23Z</dcterms:modified>
  <cp:revision>11</cp:revision>
  <dc:subject/>
  <dc:title>الشريحة 1</dc:title>
</cp:coreProperties>
</file>