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0D0-C20B-4CC6-9C5E-E9B1CE4E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FCD-BA5C-4361-9389-3F54286C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ED3-FD15-4436-9E6A-44146FDE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6F8-B14D-48AE-AC97-1132F63C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20CBE-45CD-409F-8140-A67CF093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B66A6-37E3-4732-8EE8-18D74D16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858A0-CAE0-40F2-B77D-7ABC8660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12CA6-74A7-4137-9E0C-BBC57997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65A3D-26BB-4F42-88C6-7AC881A0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3E13F-327D-4253-991B-8363D632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068B8-11D4-41EA-B305-D5E417AE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3B0D-4F5B-4B18-AC50-FDD8B249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BC5E3-17B3-46CC-B0A3-B5DDC4DD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41812-4B45-4C67-A72B-0EAA9410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44B41-CF9F-4964-BBAD-38881C43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CFE08-7652-4BD9-8786-37D252CE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66C03-8263-48F4-8E92-0FFC9E01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3DF3-9060-4F04-BDC5-09943AEE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7C5FE-3929-4DA8-8D68-EA7E211E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2CDD9-A378-4582-AA93-A0EAB417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C047D-B129-4201-8208-988D27DC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436F5-3E25-4300-9DAE-944464D9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587-C4AD-47DF-854A-F5910606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555A3-DBBC-4CF5-89E8-F835D7F9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64C8E-D4C4-4C65-B8E7-FC8A18F7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27CED-6D51-4492-ADE9-24CCEDA1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58DFF-8346-4562-B0D9-0C375155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B934E-7B6C-4FCB-A2B1-2F16B605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B6A3D-F2F0-4AF0-B408-39CF4EEC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D1902-3A62-4FF9-ACD7-E0FC8B1A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760CB-C3F1-43AD-B89B-01B7D59E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B5478-7708-4505-95F3-B0145E51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5E73E-9C0C-4CEC-8A05-93B5D5DB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BECA-6AAC-40CB-A2B5-99E33A74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D1C0D-2562-4D92-A7B5-B8DC8FBB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56500-700D-4899-8458-F6C05649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15194-2E16-49CB-BC2E-0D806AFB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BC6E9-D9C7-41B2-A9EC-D3BC4161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109DF-8EF2-46D5-9B5B-C1F6CC4C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0DDB8-3B31-4930-BA42-ACFD61E2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2A74A-6EC5-4A8B-A842-161BD5DC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30AD5-1BEC-4531-9FED-23CD7EC8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85A6A-9FF2-459A-ACBE-C28A63D6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7412C-5DF2-40B3-877B-3679293F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7E2-279D-4030-A119-0C48FF18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9673C-8987-4C6A-8910-01C06944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2100F-0231-40F9-8399-24E34675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99F95-DC62-4584-A33F-A2DF3112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9DFCC-88B9-4FC2-B5E8-C13D9DCD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FB80F-0F7E-4367-BBD0-9581A254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E8CCC-6DD2-44CD-9C5E-FFEA3B4D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4908E-165A-45AE-9808-366305CE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69284-77E0-4D55-B752-422B2A27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CFA2F-4607-48A8-8BDD-F9A80E86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BBF82-65E3-4AE1-A699-0249A626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8366-A475-4560-B08E-2EAC2B80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722BC-204D-4389-9D38-520DD485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D9713-A9BC-49F1-9E8C-FE3506F3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13A3A-2EEB-4798-B587-0DCC2D1A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3B633-92B6-4CB4-B43C-5E685529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CF6AD-9A51-4CDF-89DD-DDFC10FD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68CFD-2FB8-4D37-B057-72F660AA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0947D-0F65-4503-A9D1-C0862A42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F4FD2-F9FB-4C90-90C9-FDA8AE08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E167F-66B6-46BB-BA3C-548281EF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1FA0A-83C6-48B6-8D75-005B1580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97D-6F38-4DF4-9468-42B867FF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E51FF-FAE1-47B0-8DCB-D3DF4202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9D8DB-64E5-4235-9836-976EFFFA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C9A47-75C5-45CB-AE3A-F5C5A5B6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CB9C1-2B34-4754-97C2-7289F3F8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A668C-0FBB-4CCB-8D7C-61E725AB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F2191-E0CB-4201-89ED-5E072EFC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0F008-C8E0-42D7-8BE0-E86DBCE7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AC3C6-8CE9-4989-AEA8-2C6A4180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39F31-FBF1-4EB5-A1A6-9B1EC2F2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5E864-D1EB-40CA-A95C-98D537E6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C97-36E3-466C-A1DA-5BA4F2AF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4550E-7DB2-42D8-AD87-27EBF0E6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F5C92-5770-445C-A467-8339ECA9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15C53-23F7-4053-AE70-F7740DD1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76D4A-29E9-43A1-8DA6-63EC3E77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87269-ED64-4FE3-A8EE-BD88A739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70799-6EEB-4647-884B-9841B9EE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3F1E2-2FE6-4F40-B099-ECDD47E0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50872-6C06-438F-8DF2-A91CB3EB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53CB7-7EF9-4D1E-BC25-2AB2D5DD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85F2B-AD17-4990-AA05-E39AFBA5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D29-D105-40D6-AA50-32F892C3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64566-50D1-4099-9DFE-2C2918F0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A0E11-70AD-4E39-A2F9-D8D61898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69910-DFA3-4F29-B15C-CE6C941D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AC52E-6FAE-4557-8B82-14F9C541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7B3AD-F5E9-451D-ACFB-1E366785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284A1-04D8-4994-B109-A09C769E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0D2DF-2CF9-4623-A61E-B2CF9BE2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68FC-5069-4AFA-B133-2CC6F3F90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7D96-5EA8-4D9F-A93A-30DC878CE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B637-A1AC-4F3D-A884-B0FEE06FED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6BCD-6599-4FFB-8DE4-A4693DA25F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5E2F-4538-4BA7-A2BD-53D5C62CC5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AFA4-F118-4D50-A1D2-2567D223DB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26AF-D5CD-4CF0-83DF-50BA7580F02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BA52-DF4C-40D0-AAEF-93E27363C3D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قياس الرسم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7160" y="512928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314172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1440" y="98100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76640" y="4476600"/>
            <a:ext cx="1656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782400">
            <a:off x="7188120" y="2134800"/>
            <a:ext cx="2303640" cy="1366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184560" y="38160"/>
            <a:ext cx="336384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Imprint MT Shadow"/>
                <a:cs typeface="mohammad bold art 1"/>
              </a:rPr>
              <a:t>مقياس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1413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18920" y="1762200"/>
            <a:ext cx="3529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1012680"/>
            <a:ext cx="51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1844640"/>
            <a:ext cx="44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2349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hammad bold art 1"/>
              </a:rPr>
              <a:t>أمثل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9360" y="3151080"/>
            <a:ext cx="828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ا- رسمت منارة بمقياس رس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فكان ارتفاع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سم أوجد الارتفاع الحقيقي للمن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7680" y="444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640" y="442764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4561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47800" y="58374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3440" y="5846760"/>
            <a:ext cx="39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138640"/>
            <a:ext cx="37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3618000"/>
            <a:ext cx="914400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4280"/>
            <a:ext cx="9144000" cy="32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6021360"/>
            <a:ext cx="1439640" cy="69228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21520" y="3367080"/>
            <a:ext cx="1692360" cy="64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3520" y="5778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92840" y="20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308360" y="620640"/>
            <a:ext cx="1150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271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626920" y="620640"/>
            <a:ext cx="381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56000" y="52704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0" y="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170028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66"/>
                </a:solidFill>
                <a:latin typeface="Arial"/>
                <a:cs typeface="mohammad bold art 1"/>
              </a:rPr>
              <a:t>الطول الحقيقي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1000" y="172260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8200" y="1720800"/>
            <a:ext cx="30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42100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ت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28464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ثال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0040" y="3902040"/>
            <a:ext cx="889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قيست المسافة بين مدينتين على خارطة فكان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 وكانت المسافة الحقيقية بينهم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 اوجد مقياس رسم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59500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930920"/>
            <a:ext cx="9144000" cy="192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33880"/>
            <a:ext cx="914400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400" y="1546200"/>
            <a:ext cx="91440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520"/>
            <a:ext cx="91440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4756320"/>
            <a:ext cx="1258920" cy="792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28908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8000" y="671400"/>
            <a:ext cx="4608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-6984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على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6360" y="58896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0280" y="1527120"/>
            <a:ext cx="167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35640" y="2133720"/>
            <a:ext cx="17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6000" y="1844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92720" y="2224080"/>
            <a:ext cx="194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7480" y="189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61440" y="2224080"/>
            <a:ext cx="4140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148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57240" y="21193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76480" y="1450800"/>
            <a:ext cx="1008000" cy="64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892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7480" y="2109960"/>
            <a:ext cx="863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12000" y="357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897200" y="4005360"/>
            <a:ext cx="3528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3213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7160" y="3878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3440" y="4765680"/>
            <a:ext cx="16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مثال</a:t>
            </a: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272880" y="4699080"/>
            <a:ext cx="820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خارطة هو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: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فإذا كانت المسافة الحقيقية بين موقعين على الخارط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كم فكم تكون المسافة بينه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0520" y="4365720"/>
            <a:ext cx="9144000" cy="24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360" y="299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155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0" y="20520"/>
            <a:ext cx="914400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11640" y="743040"/>
            <a:ext cx="1800360" cy="792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42920" y="1270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على الخارطة 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68720" y="7333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32360" y="170028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مقياس الرسم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42920" y="2141640"/>
            <a:ext cx="4548240" cy="12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413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1280" y="20098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651640" y="3645000"/>
            <a:ext cx="341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8360" y="2852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4440" y="35593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3284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0" y="22410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520" y="3643200"/>
            <a:ext cx="40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673440"/>
            <a:ext cx="490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6080" y="4756320"/>
            <a:ext cx="45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5156280"/>
            <a:ext cx="485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687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5135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4360" y="6064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= 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19040" y="5549760"/>
            <a:ext cx="86425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33440" y="4425840"/>
            <a:ext cx="86421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3960" y="3213000"/>
            <a:ext cx="8642520" cy="11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620640"/>
            <a:ext cx="864252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2811600"/>
            <a:ext cx="1368360" cy="647640"/>
          </a:xfrm>
          <a:prstGeom prst="ellipse">
            <a:avLst/>
          </a:prstGeom>
          <a:solidFill>
            <a:srgbClr val="ff505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41400"/>
            <a:ext cx="4978440" cy="765000"/>
          </a:xfrm>
          <a:prstGeom prst="rect">
            <a:avLst/>
          </a:prstGeom>
          <a:solidFill>
            <a:srgbClr val="00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954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حل تدريب (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) صفح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rabic Transparent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4360" y="466560"/>
            <a:ext cx="8137440" cy="3640680"/>
            <a:chOff x="684360" y="466560"/>
            <a:chExt cx="8137440" cy="3640680"/>
          </a:xfrm>
        </p:grpSpPr>
        <p:sp>
          <p:nvSpPr>
            <p:cNvPr id="689" name=""/>
            <p:cNvSpPr/>
            <p:nvPr/>
          </p:nvSpPr>
          <p:spPr>
            <a:xfrm>
              <a:off x="684360" y="661680"/>
              <a:ext cx="81374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قياس رسم خارطة هو             ما هو بعد موقعين على هذه الخارطة إذا كانت المسافة الحقيقية بينهما هي 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1000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تر ؟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27280" y="1114200"/>
              <a:ext cx="19447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67120" y="4665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 </a:t>
              </a: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89000" y="93816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66"/>
                  </a:solidFill>
                  <a:latin typeface="Bernard MT Condensed"/>
                </a:rPr>
                <a:t>5000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851280" y="2708280"/>
            <a:ext cx="136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500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5280" y="3890880"/>
            <a:ext cx="3745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7680" y="320364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74600" y="379872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435640" y="5075280"/>
            <a:ext cx="302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27640" y="44276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6000" y="495144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7688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77720" y="50436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4303800"/>
            <a:ext cx="402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080" y="491976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64000" y="57135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39720" y="6081840"/>
            <a:ext cx="40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60339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42592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620640"/>
            <a:ext cx="828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69228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</a:rPr>
              <a:t> =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2060640"/>
            <a:ext cx="5545440" cy="4797360"/>
          </a:xfrm>
          <a:prstGeom prst="flowChartMultidocumen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350028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ernard MT Condensed"/>
              </a:rPr>
              <a:t> و إلى اللق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80960" y="48690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ernard MT Condensed"/>
              </a:rPr>
              <a:t>محمد السي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6:37:45Z</dcterms:created>
  <dc:creator>جهاز الطالب</dc:creator>
  <dc:description/>
  <dc:language>en-US</dc:language>
  <cp:lastModifiedBy>Windows XP</cp:lastModifiedBy>
  <dcterms:modified xsi:type="dcterms:W3CDTF">2007-06-16T21:55:26Z</dcterms:modified>
  <cp:revision>7</cp:revision>
  <dc:subject/>
  <dc:title>الشريحة 1</dc:title>
</cp:coreProperties>
</file>