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35A-5636-4D03-941D-F9E7C150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D801-216D-4F62-896C-0733C35F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51347-9874-48CA-BF9E-E55CF20E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7674A-33FF-4AB5-899D-022F5AA1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F6200-ED08-4012-BA69-76B7283B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92481-E6D1-40B2-A5E1-0C3D9354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2236E-BED3-4840-B67D-8E10F7A5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55B1E-776E-4CDC-8070-5F613C67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8F8A9-DC9E-4A68-AECB-0F1F923E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C9BB0-5A5D-43A3-8217-512A4554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E2EB5-705B-4559-B2CB-3F2F752B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D5D3A-E10E-4C93-922A-E53058A0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96A8-CBC4-43BB-8C4A-C603C5A4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8F28F-0AF7-4DF6-AA6D-4AAA40F4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52D40-50B3-4EA8-8381-49D63B02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08EA2-CA0C-496D-9D7A-D4E4CC65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03F88-0823-4A90-AF3E-A8AD8240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D7745-CE65-4F23-8507-E868D5D5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51F80-E36C-45BF-8037-FF016EBF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ACE12-AA18-4452-88E7-C1C05564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D3233-21CA-46B3-8372-A211B86B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0141C-53E4-45F7-978C-A6925B2F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377BE-EFCE-4FF4-8FE7-65FB20E8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F45-1D79-4CC0-B4F8-10B56FC5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5BBF3-51AB-465C-81D1-30D1D448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B6D18-20B2-4C21-933E-2EC9F84B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FAB03-ECD3-49C1-BE64-6A7AF808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13F1A-0722-448C-B286-24FC2FCA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46384-BC18-4634-863E-852FA1E2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61ADC-CEF1-4789-86AB-AA7CB4B6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89C37-CBB9-420B-B750-14C05754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AEE61-F6D2-4D3F-8B8E-425E1975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43ED-97B8-4D68-BA46-5374D1E1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46185-5B04-4CDC-AF46-3A1AEABD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2717E-2F3A-4171-8F7F-888EECC0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4AF75-471E-46BF-8653-6E43C130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DE893-9E45-4AF9-9005-DC673705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215F4-AD0A-45FE-9CDB-E4F5BA9C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197EE-B4E1-41DC-AB93-C4C6FAEA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55259-54A4-4628-930B-70E8B00D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9FCA8-79A0-432D-8E2B-F26BE66D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A64A2-FCE0-4B9F-9F40-AE8A8685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53187-B57D-4D55-A9EF-CB9A7AF2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32B-EE3B-487F-9AD7-1ECFC905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5D35E-035C-4319-8C71-44B3164C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C41B2-22CB-4084-8AAB-17BC68D9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AE30A-E41B-403D-8197-F4F06EF2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6D86C-A226-4680-827F-3E655E9B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94964-510B-4999-96ED-E471A031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D6CEC-783E-42EB-93C7-E16D7A4D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CC2DF-9428-4159-8152-02CC8A8E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CD8EA-47A2-48A6-BE35-E1AADFE3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E1D84-A07A-4983-9C09-12D971A9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A9436-B4B3-4146-9FC9-2823DC0D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298F-2096-4E97-8E3C-0517A979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2715A-42A0-4D76-B29B-6D584F22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AEDB8-67FD-461D-9481-CFDA433F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F379E-6F93-49AE-91A6-BABF8C51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09337-4751-4E8C-9028-C480D76A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C19F1-0F2E-4EF5-A825-98676243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304EE-9137-47F6-A872-C15465BB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3CA61-7E34-44A3-A853-B8340A1A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CA2E0-3F5F-4932-8F52-02F70B12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F6C50-6BB3-45CB-B23C-E3EDA92A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F8322-4837-45B2-BFA4-FFBE778C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378-A1DD-4B0F-99BA-FF07BC2F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8CD75-657A-4164-8AB2-EC909C71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0F376-0691-4CDE-8A0F-0432FEB7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D7362-B013-4FE6-BC80-3E7DB4B4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7B1FB-C865-451F-9D79-5038730F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7C683-0570-4D72-9471-8DA654DF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779F4-E6D3-4C43-9920-10ED72EB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BB811-B985-4FE2-B1B2-68C90A70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C3295-A8B8-4033-9C3F-ABD8AC04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1F2D1-B90F-40B5-9ECD-326CBC1E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349D5-35E1-49E7-8F56-FC0D37B6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649A-3C84-4FC7-961E-08910972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A6FBD-30EF-45D0-854F-AA527448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4832C-E48B-4F73-AB79-C0AF2E31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6A500-4A4A-41A8-BB10-1DBCD73D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23E37-1B11-4A71-B95E-CE2B873F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63E41-9562-4AF2-81E1-CC087C84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042A8-AE90-4294-A059-A04EE43E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425EE-082F-4298-B3D7-C5998C36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59D61-DA9B-41A6-A032-62C9DADE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7AE7D-2407-4BE8-A49E-A8E927EA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4FCCD-C26A-4E36-8569-CAE2315F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AF56-C75E-4F6E-9F52-42A7125B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1E305-1BB1-4E7D-96C2-8641298C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A376E-5168-4825-88C4-E6C6AF56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420FD-EDD4-450D-8F6A-E5005625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09C68-9FBF-4876-A731-35C7DD9D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DC50C-C836-4AD1-A96F-48E7B7E8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13A20-BBEA-4B9E-852A-91B1C18C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28711-DEE1-4DCD-8182-1D6C4700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85CFE-57E6-4F04-A0B9-C3E9EF3C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7616E-7A6C-4C05-BA85-AF12070E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517F7-19B4-4790-B288-84142D83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2B8B-E661-4158-B9E2-C228F2F7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1B06E-332A-4B6F-920D-F397E8BE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A7A26-4440-4732-985B-45D01686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34AB9-1B6C-4B63-9EE8-A93C9CA2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A6BC6-0A00-4954-ADAA-71FE0A92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05549-0BF9-4CC8-9D35-ED857BE6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6CCA8-54F9-47F6-89BF-B5850412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A36B0-E919-41F3-97C6-2863F64E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EBE6E-7BB9-4B41-9079-CC0AC48A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BBC69-211B-4F29-A080-935BBD58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ABE1A-50A7-439D-BFB9-71BBDBCF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2907-8D4C-4F03-98D7-DACC2B86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F1420-69F1-4EBD-8565-8F2044B2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45683-F523-4030-847A-4469F2BA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4DCD2-A0BB-44B6-A330-859D5AB8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B02EB-C7A2-4163-A05A-E7BF2178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7CCC3-3F63-45F7-8A74-2F9E8512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A6267-68A0-4819-A855-F98A987C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521B3-5CD3-4F5C-86CD-AFEB680D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B0D93-F18B-42FD-B674-4836A001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F8420-B912-4184-A8D2-BCAD6D0C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115FB-6DE0-4F41-B1EC-A4113442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B42A-0C9E-4DEC-8BC2-2F5BB1FFB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4A8B-FB65-4D48-92D2-1768C2DF0F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2961-92B0-4C85-855F-47B55BB91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545E-3EE9-4BEF-A398-6A231DBD50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C721-90E2-4046-AEF5-2B3120C9EA8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AE61-7645-446D-837C-99DA60E81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4A19-674D-447E-B00D-C23E04E05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5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5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F6E4-5D08-455C-A18A-5BA2A4E804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6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6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DA8C-015A-43CB-98FB-D9DA5BA269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B7CA-B677-4EB5-8EC2-A54CC8BF38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كثيرات الحدود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36440" y="2724120"/>
            <a:ext cx="8893440" cy="413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77920" y="271440"/>
            <a:ext cx="867564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88000" y="5013360"/>
            <a:ext cx="381636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716360" y="184464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116000" y="404640"/>
            <a:ext cx="7488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درجة كثيرة الحدود :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- س @ + 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ه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خامس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ب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رابع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د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-274680" y="285264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إذا رتبنا كثيرة الحدود : س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تنازليا ً تصب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# - س@ 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 - س# + س 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- س# - س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د~ س# + س@ +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71640" y="4508640"/>
            <a:ext cx="3095640" cy="2349360"/>
          </a:xfrm>
          <a:prstGeom prst="flowChartMultidocumen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0de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4888080"/>
            <a:ext cx="28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وإلى اللقا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9640" y="5661000"/>
            <a:ext cx="28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محمد السي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5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56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57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1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72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73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539640" y="2276640"/>
            <a:ext cx="8353440" cy="45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640" y="1197000"/>
            <a:ext cx="8353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76720" y="5084640"/>
            <a:ext cx="1871640" cy="865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987640" y="314172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219800" y="1341360"/>
            <a:ext cx="1619280" cy="720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71640" y="42840"/>
            <a:ext cx="446436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b7f6a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-1440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463416"/>
                </a:solidFill>
                <a:latin typeface="Arial"/>
              </a:rPr>
              <a:t>كثيرات الحدو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439560" y="1268280"/>
            <a:ext cx="9396360" cy="89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تمهيد :  اختر الإجابة الصحيحة فيما يأت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حيدة الحد فيما يلي ه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#؛    ب~ ذ س+ص    ج~ ذ س ص     د~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رجة وحيدة الحد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النسبة للمتغير 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ول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ب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ثان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ج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ثالثة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د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رابع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اتج جمع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+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361280" y="3535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71640" y="3197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KsorZulfiMath"/>
              </a:rPr>
              <a:t>ذ 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258920" y="3716280"/>
            <a:ext cx="79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71640" y="3573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53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41360" y="4371840"/>
            <a:ext cx="8569440" cy="24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8120" y="2674800"/>
            <a:ext cx="8569440" cy="16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6280" y="184320"/>
            <a:ext cx="8569440" cy="24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19640" y="1341360"/>
            <a:ext cx="280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732800" y="4149720"/>
            <a:ext cx="1258920" cy="71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588080" y="2708280"/>
            <a:ext cx="1403640" cy="649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76720" y="191628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64000" y="260280"/>
            <a:ext cx="194472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8360" y="270000"/>
            <a:ext cx="8675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 @       ج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 $        د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6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ب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ناتج طرح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 –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ا~  ذ ا ب    ب~ -ذ ا@ب@    ج~ - ذ ا ب     د~  ذ ا@ب@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-160200" y="263700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تعريف : كثيرة الحدود هي عبارة رياضية ناتجة عن جم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حيدتي حد أو أكثر غير متشابهت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أمثلة :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ص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~ ذ ا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 س# - س@  +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68360" y="4292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ar-SA" sz="3600" spc="-1" strike="noStrike">
                <a:solidFill>
                  <a:srgbClr val="ff3300"/>
                </a:solidFill>
                <a:latin typeface="Verdana"/>
              </a:rPr>
              <a:t>وتسمى ثنائية ح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508464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وتسمى ثلاثي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24000" y="59500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       وتسمى رباعية حدود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340000" y="1268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كثيرات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6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82480" y="4348080"/>
            <a:ext cx="8353440" cy="250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9960" y="1927080"/>
            <a:ext cx="8353440" cy="23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39640" y="100080"/>
            <a:ext cx="8353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910640" y="4394160"/>
            <a:ext cx="104292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492360" y="944640"/>
            <a:ext cx="3311640" cy="936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76360" y="189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كل منها يسمى كثير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06680" y="103176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تبسيط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90440" y="202104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تكون كثيرة الحدود غير مبسطة إذا وجد فيها على الأق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حدين متشابهين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مثل :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 -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تبسيطها يكون بجمع حدودها المتشابه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مثال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=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@ +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=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+ ذ ب – ذ ا + ب -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5445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ذ 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11280" y="6308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ا +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ب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71640" y="1484280"/>
            <a:ext cx="7921440" cy="403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71640" y="260280"/>
            <a:ext cx="7921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364000" y="271440"/>
            <a:ext cx="3456000" cy="720720"/>
          </a:xfrm>
          <a:custGeom>
            <a:avLst/>
            <a:gdLst>
              <a:gd name="textAreaLeft" fmla="*/ 0 w 3456000"/>
              <a:gd name="textAreaRight" fmla="*/ 3456360 w 3456000"/>
              <a:gd name="textAreaTop" fmla="*/ 93240 h 720720"/>
              <a:gd name="textAreaBottom" fmla="*/ 627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84160" y="260280"/>
            <a:ext cx="79930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0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حدد أيا ً من كثيرات الحدود التالية مبسطة وأيا ً منها غير مبسطة ، وبسط غير المبس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ص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ص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ب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ج~ -ذ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د~ %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@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1628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= - ذ س +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9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4360" y="2205000"/>
            <a:ext cx="41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 مبسطة لأن حدودها مختلق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9640" y="2997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26920" y="3684600"/>
            <a:ext cx="4681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 %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- $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!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81160" y="3789360"/>
            <a:ext cx="8634240" cy="27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4920" y="2333520"/>
            <a:ext cx="863424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8040" y="1031760"/>
            <a:ext cx="8634600" cy="12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956720" y="2421000"/>
            <a:ext cx="93636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71640" y="127080"/>
            <a:ext cx="4032360" cy="863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14480" y="14616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درجة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19240" y="1146240"/>
            <a:ext cx="88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درجة كثيرة الحدود بالنسبة لمتغير فيها تساوي أكبر أس  لهذا المت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4360" y="25322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أمثلة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#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564000" y="2997360"/>
            <a:ext cx="50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بالنسبة للمتغير س من الدرج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93880" y="31035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03640" y="38606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س ص% + ذ س@ - س# ص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-92160" y="3860640"/>
            <a:ext cx="450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093080" y="4653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411280" y="465300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465300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الخام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35280" y="566100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ين س ،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5640" y="5661000"/>
            <a:ext cx="165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7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770" fill="hold"/>
                                        <p:tgtEl>
                                          <p:spTgt spid="7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403200" y="3789360"/>
            <a:ext cx="8604360" cy="29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812000" y="5516640"/>
            <a:ext cx="104292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44600" y="146160"/>
            <a:ext cx="8604000" cy="36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40360" y="3933720"/>
            <a:ext cx="2879640" cy="6476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11280" y="907920"/>
            <a:ext cx="792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332000" y="836640"/>
            <a:ext cx="1152360" cy="649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27280" y="836640"/>
            <a:ext cx="1440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40360" y="836640"/>
            <a:ext cx="1368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932360" y="260280"/>
            <a:ext cx="374328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3280" y="2602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تدريب (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 صفحة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0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1280" y="907920"/>
            <a:ext cx="8208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عين درجة كثيرة الحدود: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$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#ص@ 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ين س ،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4360" y="17002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رابع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340000" y="2492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87280" y="31417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السابع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724360" y="386064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ترتيب كثيرة الحدو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8360" y="4724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ترتب كثيرة الحدود حسب أس المتغيرات المكونة لحدود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41440" y="5589720"/>
            <a:ext cx="806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مثال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 س$ + س# -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11280" y="6021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مرتبة ترتيبا ً تنازليا ً لأن اس المغير س متناقص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77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770" fill="hold"/>
                                        <p:tgtEl>
                                          <p:spTgt spid="7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77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8" dur="770" fill="hold"/>
                                        <p:tgtEl>
                                          <p:spTgt spid="7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0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77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770" fill="hold"/>
                                        <p:tgtEl>
                                          <p:spTgt spid="7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77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7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45960" y="2496960"/>
            <a:ext cx="8642520" cy="141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38160"/>
            <a:ext cx="8642160" cy="141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95640" y="3933720"/>
            <a:ext cx="1297080" cy="647640"/>
          </a:xfrm>
          <a:prstGeom prst="ellipse">
            <a:avLst/>
          </a:prstGeom>
          <a:solidFill>
            <a:srgbClr val="00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059280" y="1484280"/>
            <a:ext cx="3600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11280" y="26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وكثيرة الحدود :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 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-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9640" y="83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مرتبة تصاعديا ً حسب أس المتغير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11280" y="2565360"/>
            <a:ext cx="85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بسط كثيرة الحدود التالية ثم رتبها تصاعديا ً ، وما درجتها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–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-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+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+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-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843280" y="162864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438360" y="393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ال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343640" y="444492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تبسيط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( -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+ذ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04000" y="4941720"/>
            <a:ext cx="27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+ ذ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(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 – 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484360" y="494172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(-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88000" y="5516640"/>
            <a:ext cx="179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716360" y="5516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140360" y="5589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hi-IN" sz="3200" spc="-1" strike="noStrike">
                <a:solidFill>
                  <a:srgbClr val="0000ff"/>
                </a:solidFill>
                <a:latin typeface="Verdana"/>
                <a:cs typeface="Al-KsorZulfiMath"/>
              </a:rPr>
              <a:t>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00360" y="551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987640" y="6278400"/>
            <a:ext cx="61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f6a8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ترتيب تصاعديا ً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+ س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4000" y="622620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درجة :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2962440"/>
            <a:ext cx="9144000" cy="15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692280"/>
            <a:ext cx="8748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1341360"/>
            <a:ext cx="9144000" cy="158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492360" y="6021360"/>
            <a:ext cx="237492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03640" y="3716280"/>
            <a:ext cx="244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64360" y="206064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76720" y="0"/>
            <a:ext cx="3816360" cy="6922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932360" y="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تمارين (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6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943280" y="76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ختر الإجابة الصحيحة لكل مما يأت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00000" y="14130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ثنائية حدين من الدرجة الأولى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ب~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د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1280" y="3141720"/>
            <a:ext cx="853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عبارة رياضية تدعى ثلاثية حدود هي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#+ ص      ب~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- س +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ج~   !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ب ج       د~   ؛؛؛؛؛؛؛؛؛؛؛؛؛؛؛؛؛؛؛؛؛؛؛؛؛؛؛؛؛؛؛؛؛؛؛؛؛؛؛؛؛؛؛؛؛؛؛؛؛؛؛؛؛؛؛؛؛؛؛؛؛؛؛؛؛؛؛؛؛؛؛؛؛؛؛؛؛؛؛؛؛؛؛؛؛؛؛؛؛؛؛؛؛؛؛؛؛؛؛؛؛؛؛؛؛؛؛؛؛؛؛؛؛؛؛؛؛؛؛؛؛؛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16000" y="357336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547640" y="39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258920" y="4581360"/>
            <a:ext cx="7885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كثيرة حدود في أبسط صورة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ص@ + ص – ص           ب~ !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+ ا#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+ س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    د~ ا@ + ا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9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9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6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4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2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1:14:50Z</dcterms:created>
  <dc:creator>user</dc:creator>
  <dc:description/>
  <dc:language>en-US</dc:language>
  <cp:lastModifiedBy>Windows XP</cp:lastModifiedBy>
  <dcterms:modified xsi:type="dcterms:W3CDTF">2007-06-16T21:53:23Z</dcterms:modified>
  <cp:revision>11</cp:revision>
  <dc:subject/>
  <dc:title>الشريحة 1</dc:title>
</cp:coreProperties>
</file>