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7F50-B134-4CCF-A730-AAE60AFC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AA86-89D0-410A-B546-1658C276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CB9E-899B-4BDA-8635-2BECD0A9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94B4-8927-4C0E-B92F-84D80C0C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591B-0C73-4B7E-A49C-7E0F297E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A6B0-3A87-47C2-829C-1ED6D7CC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D457-D9CE-4969-ADAB-9775C4A4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6EC6-6EF5-44E3-AB68-0814BE54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85E4-56EF-46D6-AD36-E3356EFE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9414-5E2E-4B1E-A5EC-3C6530C3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4F2B-190E-4CDE-9D33-DA3E7BF1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E434-B270-41F1-85D3-0241FE2E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D284-DC3E-4341-9BF0-28B45FD0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269A-D15F-4393-A086-26514485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B311-10B0-4633-9569-E28DA2A1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262D-BD3D-4528-8B44-B4C9E514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E935-5862-4FBB-AEED-377F90C38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331B73-B490-4D20-B2CC-D9418462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044453-98D9-42D3-B7CB-BD189827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5215F8-AF4F-44EE-9A85-F4342E43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1758D-1A68-4607-AEF9-047B478D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A90587-680B-418C-AD41-BBA67525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DD17-E841-49CC-ACED-B988C164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894ADC-1AA0-4AFC-90AB-0A9B8DB1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64F8F3-B4C5-420A-9677-062E1CE2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824DB6-33F3-41CE-A547-2B869C91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9DB4F7-7369-416E-9671-3B1E4D61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F3CC21-0330-4C49-96F1-EABBBB91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A7F18E-92F6-4E73-BD74-722B80D0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7912F0-EA77-4E66-A029-B06F13A6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3D92-BB35-4122-9FE5-CE6CB6B0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77A2-4B8F-4626-A8EC-17AC6379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4789-DE92-450D-BDE2-B0F81843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9AA4-A9B7-4950-B4DA-25C88E54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1835-F47D-4E67-AA82-C823BF55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D565-37B4-4833-863A-D24D5471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6EEB-0C61-434E-9924-147954BA5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9134-47BE-4DED-8FF6-A86B067922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53AF-A177-4101-8ED1-01F2597FFE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توازي الأضلاع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654520" y="14461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3736800"/>
            <a:ext cx="8810640" cy="299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2360" y="3027240"/>
            <a:ext cx="410364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22840" y="1260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91120" y="554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راب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40" y="80172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927000"/>
            <a:ext cx="8282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651640" y="292428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02280" y="151128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خامس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5320" y="22050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080" y="233208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توازى وتساوى ضلعان متقابلان ف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16720" y="299736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مث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53960" y="2975040"/>
            <a:ext cx="40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-82440" y="3654360"/>
            <a:ext cx="5249880" cy="2649240"/>
            <a:chOff x="-82440" y="3654360"/>
            <a:chExt cx="5249880" cy="2649240"/>
          </a:xfrm>
        </p:grpSpPr>
        <p:sp>
          <p:nvSpPr>
            <p:cNvPr id="358" name=""/>
            <p:cNvSpPr/>
            <p:nvPr/>
          </p:nvSpPr>
          <p:spPr>
            <a:xfrm flipH="1">
              <a:off x="1547280" y="41497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44120" y="58561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830760" y="414972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64640" y="413856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55640" y="414972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2932200" y="3968640"/>
              <a:ext cx="341280" cy="363600"/>
              <a:chOff x="2932200" y="3968640"/>
              <a:chExt cx="341280" cy="363600"/>
            </a:xfrm>
          </p:grpSpPr>
          <p:sp>
            <p:nvSpPr>
              <p:cNvPr id="364" name=""/>
              <p:cNvSpPr/>
              <p:nvPr/>
            </p:nvSpPr>
            <p:spPr>
              <a:xfrm>
                <a:off x="2932200" y="396864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79800" y="39733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2222640" y="5665680"/>
              <a:ext cx="342720" cy="363600"/>
              <a:chOff x="2222640" y="5665680"/>
              <a:chExt cx="342720" cy="363600"/>
            </a:xfrm>
          </p:grpSpPr>
          <p:sp>
            <p:nvSpPr>
              <p:cNvPr id="367" name=""/>
              <p:cNvSpPr/>
              <p:nvPr/>
            </p:nvSpPr>
            <p:spPr>
              <a:xfrm>
                <a:off x="2371680" y="56656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222640" y="567072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4375080" y="39639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80000" y="5661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19080" y="36543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82440" y="551664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240" y="50846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81560" y="43862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4519440" y="3778200"/>
            <a:ext cx="45007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6164280"/>
            <a:ext cx="1150920" cy="549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14960" y="6083280"/>
            <a:ext cx="115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2924280"/>
            <a:ext cx="889308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0"/>
            <a:ext cx="8893080" cy="292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-396720" y="-41400"/>
            <a:ext cx="5249880" cy="2649240"/>
            <a:chOff x="-396720" y="-41400"/>
            <a:chExt cx="5249880" cy="2649240"/>
          </a:xfrm>
        </p:grpSpPr>
        <p:sp>
          <p:nvSpPr>
            <p:cNvPr id="381" name=""/>
            <p:cNvSpPr/>
            <p:nvPr/>
          </p:nvSpPr>
          <p:spPr>
            <a:xfrm flipH="1">
              <a:off x="1233000" y="4539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29840" y="21603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516480" y="45396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50360" y="44280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41360" y="45396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2617920" y="272880"/>
              <a:ext cx="341280" cy="363600"/>
              <a:chOff x="2617920" y="272880"/>
              <a:chExt cx="341280" cy="363600"/>
            </a:xfrm>
          </p:grpSpPr>
          <p:sp>
            <p:nvSpPr>
              <p:cNvPr id="387" name=""/>
              <p:cNvSpPr/>
              <p:nvPr/>
            </p:nvSpPr>
            <p:spPr>
              <a:xfrm>
                <a:off x="2617920" y="2728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765520" y="27756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1908360" y="1969920"/>
              <a:ext cx="342720" cy="363600"/>
              <a:chOff x="1908360" y="1969920"/>
              <a:chExt cx="342720" cy="363600"/>
            </a:xfrm>
          </p:grpSpPr>
          <p:sp>
            <p:nvSpPr>
              <p:cNvPr id="390" name=""/>
              <p:cNvSpPr/>
              <p:nvPr/>
            </p:nvSpPr>
            <p:spPr>
              <a:xfrm>
                <a:off x="2057400" y="19699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908360" y="197496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4060800" y="2682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65720" y="196524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4800" y="-414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-396720" y="182088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9960" y="13888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67280" y="6904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822920" y="17784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ب ا ؟ ج  = د ج ؟ ا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3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l-KsorZulfiMath"/>
              </a:rPr>
              <a:t>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37160" y="82872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وهما زاويتان متبادلت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86320" y="15825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إ ا ب  ] د 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99080" y="223848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، بم  ا د ] ب &lt;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معط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7400" y="292428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40440" y="370044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0920" y="4603680"/>
            <a:ext cx="8893080" cy="225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38680" y="4619520"/>
            <a:ext cx="40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19440" y="54450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-266760" y="4452840"/>
            <a:ext cx="6267600" cy="2674080"/>
            <a:chOff x="-266760" y="4452840"/>
            <a:chExt cx="6267600" cy="2674080"/>
          </a:xfrm>
        </p:grpSpPr>
        <p:sp>
          <p:nvSpPr>
            <p:cNvPr id="408" name=""/>
            <p:cNvSpPr/>
            <p:nvPr/>
          </p:nvSpPr>
          <p:spPr>
            <a:xfrm>
              <a:off x="1619280" y="489744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84360" y="6453360"/>
              <a:ext cx="4535280" cy="71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8436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27672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11640" y="4869000"/>
              <a:ext cx="100800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3352680" y="5978520"/>
              <a:ext cx="454320" cy="503280"/>
              <a:chOff x="3352680" y="5978520"/>
              <a:chExt cx="454320" cy="503280"/>
            </a:xfrm>
          </p:grpSpPr>
          <p:sp>
            <p:nvSpPr>
              <p:cNvPr id="414" name=""/>
              <p:cNvSpPr/>
              <p:nvPr/>
            </p:nvSpPr>
            <p:spPr>
              <a:xfrm>
                <a:off x="3352680" y="6043680"/>
                <a:ext cx="454320" cy="4316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564000" y="5978520"/>
                <a:ext cx="239760" cy="503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710240" y="5999040"/>
              <a:ext cx="553680" cy="476280"/>
              <a:chOff x="4710240" y="5999040"/>
              <a:chExt cx="553680" cy="47628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4710240" y="6060600"/>
                <a:ext cx="553680" cy="4082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714200" y="5999040"/>
                <a:ext cx="292320" cy="476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971640" y="5589720"/>
              <a:ext cx="28728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06720" y="6299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09880" y="469584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11480" y="630396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36960" y="4697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-26676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51280" y="461340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6640" y="44528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8440" y="636264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4812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4572000" y="5538960"/>
              <a:ext cx="21600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990960" y="2187720"/>
            <a:ext cx="1225440" cy="79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-38160" y="0"/>
            <a:ext cx="9144000" cy="220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00440" y="88920"/>
            <a:ext cx="4500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-304920" y="-209520"/>
            <a:ext cx="6267600" cy="2673720"/>
            <a:chOff x="-304920" y="-209520"/>
            <a:chExt cx="6267600" cy="2673720"/>
          </a:xfrm>
        </p:grpSpPr>
        <p:sp>
          <p:nvSpPr>
            <p:cNvPr id="434" name=""/>
            <p:cNvSpPr/>
            <p:nvPr/>
          </p:nvSpPr>
          <p:spPr>
            <a:xfrm>
              <a:off x="1581120" y="23472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46200" y="1790280"/>
              <a:ext cx="4535280" cy="70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4620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23856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73480" y="206280"/>
              <a:ext cx="1008000" cy="1584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3314520" y="1315800"/>
              <a:ext cx="454320" cy="502920"/>
              <a:chOff x="3314520" y="1315800"/>
              <a:chExt cx="454320" cy="502920"/>
            </a:xfrm>
          </p:grpSpPr>
          <p:sp>
            <p:nvSpPr>
              <p:cNvPr id="440" name=""/>
              <p:cNvSpPr/>
              <p:nvPr/>
            </p:nvSpPr>
            <p:spPr>
              <a:xfrm>
                <a:off x="3314520" y="1380600"/>
                <a:ext cx="454320" cy="4312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525840" y="1315800"/>
                <a:ext cx="239760" cy="502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4672080" y="1336320"/>
              <a:ext cx="553680" cy="475920"/>
              <a:chOff x="4672080" y="1336320"/>
              <a:chExt cx="553680" cy="475920"/>
            </a:xfrm>
          </p:grpSpPr>
          <p:sp>
            <p:nvSpPr>
              <p:cNvPr id="443" name=""/>
              <p:cNvSpPr/>
              <p:nvPr/>
            </p:nvSpPr>
            <p:spPr>
              <a:xfrm flipH="1">
                <a:off x="4672080" y="1397880"/>
                <a:ext cx="553680" cy="4078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4676040" y="1336320"/>
                <a:ext cx="292320" cy="475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933480" y="927000"/>
              <a:ext cx="28728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68560" y="1636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71720" y="3312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73320" y="164124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98800" y="34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-30492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13120" y="-4896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8480" y="-20952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00280" y="169992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0996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533840" y="876240"/>
              <a:ext cx="21600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689280" y="224640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80" y="3006720"/>
            <a:ext cx="9144000" cy="38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843280" y="342900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ه ؟  = ا ب ؟ 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280" y="342900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16360" y="4149720"/>
            <a:ext cx="381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4000" y="411804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59320" y="479736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ك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07400" y="551664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40440" y="618480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755640" y="692280"/>
            <a:ext cx="7993080" cy="5400720"/>
          </a:xfrm>
          <a:prstGeom prst="flowChartMultidocument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87640" y="1844640"/>
            <a:ext cx="46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وإلى اللقا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5640" y="3573360"/>
            <a:ext cx="468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Arial"/>
              </a:rPr>
              <a:t>محمد السي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4360" y="3456000"/>
            <a:ext cx="806436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160" y="1519200"/>
            <a:ext cx="820764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7400" y="836640"/>
            <a:ext cx="2340000" cy="863640"/>
          </a:xfrm>
          <a:custGeom>
            <a:avLst/>
            <a:gdLst>
              <a:gd name="textAreaLeft" fmla="*/ 534240 w 2340000"/>
              <a:gd name="textAreaRight" fmla="*/ 1805760 w 234000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3280" y="0"/>
            <a:ext cx="3600360" cy="83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38440" y="2232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66ff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13720" y="863640"/>
            <a:ext cx="19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عريف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1557360"/>
            <a:ext cx="83516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متوازي الأضلاع هو شكل رباعي فيه 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  ضلعان متقابلان متوازيان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41400" y="395604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455480" y="561168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262120" y="3956040"/>
            <a:ext cx="1295640" cy="16556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95440" y="3933720"/>
            <a:ext cx="1295280" cy="16560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7800" y="36687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6880" y="554040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7760" y="5611680"/>
            <a:ext cx="97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0880" y="32576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19640" y="3782880"/>
            <a:ext cx="1276920" cy="1998720"/>
            <a:chOff x="3419640" y="3782880"/>
            <a:chExt cx="1276920" cy="1998720"/>
          </a:xfrm>
        </p:grpSpPr>
        <p:grpSp>
          <p:nvGrpSpPr>
            <p:cNvPr id="183" name=""/>
            <p:cNvGrpSpPr/>
            <p:nvPr/>
          </p:nvGrpSpPr>
          <p:grpSpPr>
            <a:xfrm>
              <a:off x="4356000" y="3782880"/>
              <a:ext cx="340560" cy="363600"/>
              <a:chOff x="4356000" y="3782880"/>
              <a:chExt cx="340560" cy="363600"/>
            </a:xfrm>
          </p:grpSpPr>
          <p:sp>
            <p:nvSpPr>
              <p:cNvPr id="184" name=""/>
              <p:cNvSpPr/>
              <p:nvPr/>
            </p:nvSpPr>
            <p:spPr>
              <a:xfrm>
                <a:off x="4356000" y="378288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03240" y="378756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419640" y="5418000"/>
              <a:ext cx="342720" cy="363600"/>
              <a:chOff x="3419640" y="5418000"/>
              <a:chExt cx="342720" cy="363600"/>
            </a:xfrm>
          </p:grpSpPr>
          <p:sp>
            <p:nvSpPr>
              <p:cNvPr id="187" name=""/>
              <p:cNvSpPr/>
              <p:nvPr/>
            </p:nvSpPr>
            <p:spPr>
              <a:xfrm>
                <a:off x="3568680" y="541800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19640" y="542304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1824840" y="4567680"/>
            <a:ext cx="4336560" cy="403560"/>
            <a:chOff x="1824840" y="4567680"/>
            <a:chExt cx="4336560" cy="403560"/>
          </a:xfrm>
        </p:grpSpPr>
        <p:sp>
          <p:nvSpPr>
            <p:cNvPr id="190" name=""/>
            <p:cNvSpPr/>
            <p:nvPr/>
          </p:nvSpPr>
          <p:spPr>
            <a:xfrm rot="1119000">
              <a:off x="185220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119000">
              <a:off x="562896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619280" y="591804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66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480" y="4417920"/>
            <a:ext cx="8893080" cy="24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7360" y="2708280"/>
            <a:ext cx="8893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80" y="907920"/>
            <a:ext cx="8893440" cy="17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24200" y="66600"/>
            <a:ext cx="4681440" cy="6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78200" y="0"/>
            <a:ext cx="497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خواص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4640" y="1052640"/>
            <a:ext cx="627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3760" y="2924280"/>
            <a:ext cx="678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قابلتان متساويتا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1840" y="4567320"/>
            <a:ext cx="699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9280" y="1217520"/>
            <a:ext cx="2300040" cy="1130400"/>
            <a:chOff x="179280" y="1217520"/>
            <a:chExt cx="2300040" cy="1130400"/>
          </a:xfrm>
        </p:grpSpPr>
        <p:sp>
          <p:nvSpPr>
            <p:cNvPr id="202" name=""/>
            <p:cNvSpPr/>
            <p:nvPr/>
          </p:nvSpPr>
          <p:spPr>
            <a:xfrm>
              <a:off x="606240" y="12175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9280" y="23479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90080" y="1201680"/>
            <a:ext cx="2282400" cy="1152360"/>
            <a:chOff x="190080" y="1201680"/>
            <a:chExt cx="2282400" cy="1152360"/>
          </a:xfrm>
        </p:grpSpPr>
        <p:sp>
          <p:nvSpPr>
            <p:cNvPr id="205" name=""/>
            <p:cNvSpPr/>
            <p:nvPr/>
          </p:nvSpPr>
          <p:spPr>
            <a:xfrm flipH="1">
              <a:off x="203940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9008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476360" y="29242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4320" y="3684600"/>
            <a:ext cx="86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5080" y="3033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0640" y="388944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222200">
            <a:off x="632520" y="306792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9360" y="5157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01680" y="5157720"/>
            <a:ext cx="2592360" cy="1224000"/>
            <a:chOff x="301680" y="5157720"/>
            <a:chExt cx="2592360" cy="1224000"/>
          </a:xfrm>
        </p:grpSpPr>
        <p:sp>
          <p:nvSpPr>
            <p:cNvPr id="214" name=""/>
            <p:cNvSpPr/>
            <p:nvPr/>
          </p:nvSpPr>
          <p:spPr>
            <a:xfrm>
              <a:off x="949320" y="5180040"/>
              <a:ext cx="1297080" cy="115092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01680" y="5157720"/>
              <a:ext cx="2592360" cy="122400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060640" y="587376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4869000"/>
            <a:ext cx="9144000" cy="19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34040" y="4060800"/>
            <a:ext cx="865080" cy="865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80" y="814320"/>
            <a:ext cx="9144000" cy="340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88000" y="-133200"/>
            <a:ext cx="2556000" cy="1197000"/>
          </a:xfrm>
          <a:prstGeom prst="irregularSeal1">
            <a:avLst/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74000" y="11124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مثلة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2000" y="912960"/>
            <a:ext cx="799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ي الشكل المقابل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وازي أضلا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ه :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ا ؟ 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%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حسب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ب ؟   ،  ج ؟  ،  د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0" y="836640"/>
            <a:ext cx="5067360" cy="3005640"/>
            <a:chOff x="0" y="836640"/>
            <a:chExt cx="5067360" cy="3005640"/>
          </a:xfrm>
        </p:grpSpPr>
        <p:sp>
          <p:nvSpPr>
            <p:cNvPr id="224" name=""/>
            <p:cNvSpPr/>
            <p:nvPr/>
          </p:nvSpPr>
          <p:spPr>
            <a:xfrm>
              <a:off x="25200" y="3078000"/>
              <a:ext cx="82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9040" y="1484280"/>
              <a:ext cx="4105440" cy="1728720"/>
            </a:xfrm>
            <a:prstGeom prst="parallelogram">
              <a:avLst>
                <a:gd name="adj" fmla="val 59371"/>
              </a:avLst>
            </a:prstGeom>
            <a:solidFill>
              <a:srgbClr val="8def99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43360" y="11970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5400" y="30686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6800" y="836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95640" y="1535040"/>
              <a:ext cx="15112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8120" y="1412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26478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86160" y="2587680"/>
              <a:ext cx="122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492360" y="40942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1440" y="543888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25880" y="6095880"/>
            <a:ext cx="735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63400" y="4552920"/>
            <a:ext cx="8209080" cy="23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57880" y="4156200"/>
            <a:ext cx="1079280" cy="79200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5960" y="12682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0360" y="6397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8040" y="-270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-4752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93080" y="692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0" y="66672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59280" y="62532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86560" y="131616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78600" y="1254240"/>
            <a:ext cx="165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122076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5040" y="1916280"/>
            <a:ext cx="8209080" cy="23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95880" y="1989000"/>
            <a:ext cx="45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31920" y="1763640"/>
            <a:ext cx="5248080" cy="2550240"/>
            <a:chOff x="331920" y="1763640"/>
            <a:chExt cx="5248080" cy="2550240"/>
          </a:xfrm>
        </p:grpSpPr>
        <p:sp>
          <p:nvSpPr>
            <p:cNvPr id="252" name=""/>
            <p:cNvSpPr/>
            <p:nvPr/>
          </p:nvSpPr>
          <p:spPr>
            <a:xfrm>
              <a:off x="755640" y="2349360"/>
              <a:ext cx="4032360" cy="1295640"/>
            </a:xfrm>
            <a:prstGeom prst="parallelogram">
              <a:avLst>
                <a:gd name="adj" fmla="val 77806"/>
              </a:avLst>
            </a:prstGeom>
            <a:solidFill>
              <a:srgbClr val="ffff00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2880" y="176364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01680" y="17794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35280" y="3357720"/>
              <a:ext cx="86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1920" y="354960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70200" y="1768320"/>
              <a:ext cx="2017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7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62200" y="2637000"/>
              <a:ext cx="201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5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284720" y="2708280"/>
            <a:ext cx="453708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تواز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أضلاع أحسب محيطه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71880" y="409248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0200" y="5438880"/>
            <a:ext cx="862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000" y="60958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11280" y="4842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8040" y="19810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13255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6699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87640" y="-64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73760" y="58104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أي مضلع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2360" y="5763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جموع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08360" y="123984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198900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2637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9692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35772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فيه: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؟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3860640"/>
            <a:ext cx="50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وجد قياس زواياه الأخر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11640" y="465300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08320" y="4653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52560" y="523404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1440" y="595476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39640" y="4919760"/>
            <a:ext cx="820908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13320" y="0"/>
            <a:ext cx="737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1040" y="69228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579600"/>
            <a:ext cx="626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0400" y="13827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93080" y="1403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64000" y="138924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97360" y="134784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81040" y="20304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58120" y="209232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32360" y="2019240"/>
            <a:ext cx="188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98800" y="199872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2600" y="2692440"/>
            <a:ext cx="820872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9720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0680" y="3281400"/>
            <a:ext cx="81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طول محيطه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00" y="386064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،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احسب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19640" y="4653000"/>
            <a:ext cx="180000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92640" y="457668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52736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صف المحي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22840" y="593892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25360" y="52052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ول + العر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43280" y="59626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32360" y="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00720" y="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6922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8360" y="620640"/>
            <a:ext cx="23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92360" y="620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4960" y="6033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13636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72280" y="1335240"/>
            <a:ext cx="908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11280" y="20494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201600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48360" y="198900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87640" y="20336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27417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7640" y="27255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443640" y="270828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48360" y="269892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0800000">
            <a:off x="900000" y="3644640"/>
            <a:ext cx="7344000" cy="2879640"/>
          </a:xfrm>
          <a:prstGeom prst="upArrowCallout">
            <a:avLst>
              <a:gd name="adj1" fmla="val 63764"/>
              <a:gd name="adj2" fmla="val 63758"/>
              <a:gd name="adj3" fmla="val 16667"/>
              <a:gd name="adj4" fmla="val 66660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16200000"/>
          </a:gra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9800" y="3683160"/>
            <a:ext cx="7273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نتقل الآن إلى الحالات التي يك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ها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9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4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9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63560" y="57564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89440" y="49417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3560" y="429264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08520" y="36115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22160" y="302436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51640" y="237492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7320" y="1204920"/>
            <a:ext cx="8209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63640" y="-19080"/>
            <a:ext cx="5977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6360" y="146376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كون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 الحالات الآت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4360" y="19044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الحالات التي يكون فيها الش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227640" y="2421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أ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315612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00720" y="371628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81120" y="446400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300720" y="50450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لث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7840" y="593244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ت 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7:01:31Z</dcterms:created>
  <dc:creator>sa</dc:creator>
  <dc:description/>
  <dc:language>en-US</dc:language>
  <cp:lastModifiedBy>Windows XP</cp:lastModifiedBy>
  <dcterms:modified xsi:type="dcterms:W3CDTF">2007-06-16T21:53:54Z</dcterms:modified>
  <cp:revision>11</cp:revision>
  <dc:subject/>
  <dc:title>الشريحة 1</dc:title>
</cp:coreProperties>
</file>