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BA5B-0613-48B2-A370-97AF2074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B29F-7AF9-4FC9-B555-409CA62E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CBA1E-2A68-413A-9CC2-833BF9EF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38025-06FC-4314-BD4F-8FD41CDB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275D3-DC7A-4958-A672-84257248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9226F-F1BE-4283-A4D4-1980C45C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D14E1-49B5-4CDC-B39D-1AE5E682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AFF00-EB39-48FF-9BE9-B4FABB4D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1966A-1758-445D-8C83-F36CB379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6434B-E158-4768-B2BF-35BD192B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6ECC7-F609-49AF-88EB-A846A3C5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03C7E-2A9D-4E38-8596-44A97F2F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7EBC-3A1E-4253-8381-8E15CFF1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DF476-1BCF-48DE-BCB9-4124AC6F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2B384-EAE5-466D-AEA3-A7F286AE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BE563-0A13-4D4C-8D7A-D06C6708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4AB6B-361E-47B8-B9A8-19596E4F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98040-5FDC-420A-B1CD-7DF848D3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CB259-04C7-4719-A9D8-8ECADB23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D8823-4156-464B-89C1-A4B7700E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4B710-C44B-4871-A32C-A303297F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C194E-7FC7-4ABE-A394-C976BA4E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F33E3-36E6-4F62-A9ED-145F110E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1992-D764-468D-A690-141DF22B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9C5F7-130C-4E59-A2E1-F1153C36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DAB0C-693A-4C52-807A-C760480A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30EB4-2575-418D-A5E0-9C0A1091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F610F-2682-493C-88D3-E088B3CD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7FDD0-65D6-44BD-985E-DC5A977D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6A176-9118-47B7-BF7C-ED71B78A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33020-D341-4D40-8CA8-488E064C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D868E-63D0-4C57-A76E-D955CE47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D72A-C63D-48F9-A566-17FDF48B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D3A9B-E111-40BE-850F-775E3753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368EF-B728-447E-AD01-46541537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37DD9-C94E-4D08-A78C-22582E2A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0E964-4097-4525-AD19-A1686B21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9EBC8-317C-4842-A64A-2B6E6D77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831B5-5DDC-4F1C-A77D-3DF14798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990C1-ABA5-4785-A5D3-33C66401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1C276-EF4A-41BF-BDF5-DDA75DDD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24E9F-B99D-4DF2-B295-2978B399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697B9-9FE7-41D4-BB60-3D128E3A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94BE-2659-45B4-89B7-67670526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D290D-4E9B-4BA4-A7AB-A0957F66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07449-80D8-4CA6-9D38-0CB67014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D1EA2-8551-4A81-820B-3B03EF13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BC629-4BD0-4C32-AB87-694F2B7E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88C5C-12FB-46A9-8921-22DF8988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A58B6-2F2F-46A7-BB08-11419E5B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ED101-CABD-4050-B5ED-E4938D32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166CE-CEBB-4C04-89AF-26A4A1B1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CBC79-447E-45A5-8853-72AF3FFA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E208E-81E1-42BA-BE8E-70EC8190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F88C-C608-455D-89BA-500CF2D4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A68E0-475E-484F-B317-F605DD18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8C9FA-D28C-464A-9F2C-78D44502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7A7EC-8E89-485F-95CD-42946A6F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430EE-4F1A-4C4C-A4E9-3C1C7F66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0EA5B-BA99-4B7D-889F-75B0DE7D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5A563-716D-436E-A3CA-1B931B81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BB7C2-7BBD-4B62-A6F9-731A4F09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66675-C8AE-44BB-BA0E-DCE71BB1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BCBB8-9B8A-4B10-A59B-33785A15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80CB0-7B63-4153-8B69-81C4CC93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7BF1-A444-4582-8C3B-6006E4F4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84239-B1A2-41F1-AD7F-C76BD507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A02C5-7102-434D-9621-F83CA5FD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B99F5-B08A-4CA2-A531-C4305214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56F7C-1A1D-425D-97A2-3D2094B3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AF817-F65C-4223-AADF-DB838597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F40FA-473A-4132-9884-8F2F5455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23C2C-67E2-4728-88F6-11D80ADA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F9340-13F9-4EE4-8DAD-44129BE9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E2A6C-1E65-4064-B885-CBA5ABE0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CE4A1-78D6-4DEC-BA5B-33780120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686-2940-4DAF-B369-70C8A916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72EBA-BB0F-4D7E-B689-56C5B2F1C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D369F-419C-4239-B396-4AEB4440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6CA34-D1F7-487F-A825-DF604CFF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A01B6-C897-4140-B9B3-5265D155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C0DE3-27F1-43D3-95D1-452197ED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EE442-013F-47C4-815C-0744CAB0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CECA2-654F-4F4C-AF7A-44DDF86A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102B2-2394-4F40-A02D-5236F94C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CD4A2-87DA-4C4E-BC8B-1C9BFB2B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28324-D703-4612-9F84-BA90E61C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2CE5-105F-459E-AF66-A53D3FE3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6E367-3DF9-4C95-8F88-EB439936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93347-DD2F-49F4-820C-4F84D583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2BA3F-C6EB-4F61-8982-D57C344D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D9093-73D2-4D60-8D22-A180EB76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560EA-9703-44F6-ADAA-E250ED24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83E46-338F-440B-ACEA-C0D9F9E3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F542A-4D5F-47DC-81C6-155A7B09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B6901-5B27-4033-96FD-3E21123E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CD646-8B3A-4FEE-B528-92CDE870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F8E66-FF28-4DB4-8DA0-9CC5ED3A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B7DA-4A9A-4D88-9552-95DA6584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11DE1-ECD7-4465-9ED9-844E0EAD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EF34B-97EC-4189-BE57-BCF39BBC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39A31-DCB7-4BF1-AE9A-9AE18C56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60F41-167B-4201-9817-239FB3B6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D2967-421A-409C-86D3-5EDB4C87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54049-A716-47E5-B30B-2915EBB5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9F8B6-2EDC-4746-B886-27A9F240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4423A-7F37-4BEA-949D-B145B812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B6963-27BC-426D-B3BC-59121139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BE1CC-3CC5-4D50-AC9B-6E1DF968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C2E9-F3FA-4668-867F-BC42A12F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AB45C-2D15-49E6-A0D5-6712B18B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D4E4B-D586-4E1D-A233-CDB852F0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E216C-D890-4D2E-BD8E-4B664250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E05BE-BB75-42DF-BBBF-67FD151B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30106-0322-42C7-9B6E-0F4F1F7B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6E4E6-ED7D-4FDA-8E7F-D4631512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A18E0-FAD9-47F6-96F9-2184423A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6E5E2-46E9-4807-A09F-FF215A53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EE4E2-86A8-43A4-93CE-15315EAE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C78C5-81E2-40E2-83D7-5003A118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0D54-ADB8-404A-92AF-DD900D654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B1A1-3AB0-4604-8ECC-0D0B92F03E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EE27-813E-4729-AADB-F73A4F695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5FFB-2412-4D16-9B64-F476576FD7B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9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D368-84FB-4FB4-860F-190907A83F7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3846-90E1-4FB3-8F6E-9322EF28B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CFA9-2623-4362-87FE-60C267B8A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5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5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BDC0-00F3-4A33-8A8F-C70EE3A577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6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6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AC57-3C33-414E-A11A-1FF289110E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70C9-293C-4840-B93E-F50D908F6B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كثيرات الحدود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136440" y="2724120"/>
            <a:ext cx="8893440" cy="413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77920" y="271440"/>
            <a:ext cx="8675640" cy="23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788000" y="5013360"/>
            <a:ext cx="381636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716360" y="184464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116000" y="404640"/>
            <a:ext cx="7488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درجة كثيرة الحدود :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- س @ + 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ه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خامس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ب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رابع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د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-274680" y="285264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إذا رتبنا كثيرة الحدود : س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تنازليا ً تصب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# - س@ 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 - س# + س 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- س# - س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د~ س# + س@ +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971640" y="4508640"/>
            <a:ext cx="3095640" cy="2349360"/>
          </a:xfrm>
          <a:prstGeom prst="flowChartMultidocumen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0de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4888080"/>
            <a:ext cx="287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وإلى اللقا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9640" y="5661000"/>
            <a:ext cx="28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محمد السي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5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56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57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1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72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73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539640" y="2276640"/>
            <a:ext cx="8353440" cy="45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640" y="1197000"/>
            <a:ext cx="8353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076720" y="5084640"/>
            <a:ext cx="1871640" cy="865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987640" y="3141720"/>
            <a:ext cx="2160720" cy="1079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219800" y="1341360"/>
            <a:ext cx="1619280" cy="720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71640" y="42840"/>
            <a:ext cx="446436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b7f6a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40000" y="-14400"/>
            <a:ext cx="43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463416"/>
                </a:solidFill>
                <a:latin typeface="Arial"/>
              </a:rPr>
              <a:t>كثيرات الحدو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439560" y="1268280"/>
            <a:ext cx="9396360" cy="89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تمهيد :  اختر الإجابة الصحيحة فيما يأت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حيدة الحد فيما يلي ه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#؛    ب~ ذ س+ص    ج~ ذ س ص     د~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رجة وحيدة الحد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النسبة للمتغير 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ول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ب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ثاني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ج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ثالثة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د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رابع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اتج جمع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+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361280" y="3535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71640" y="31971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l-KsorZulfiMath"/>
              </a:rPr>
              <a:t>ذ 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1258920" y="3716280"/>
            <a:ext cx="79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71640" y="3573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152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153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441360" y="4371840"/>
            <a:ext cx="8569440" cy="24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38120" y="2674800"/>
            <a:ext cx="8569440" cy="16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6280" y="184320"/>
            <a:ext cx="8569440" cy="24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419640" y="1341360"/>
            <a:ext cx="280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732800" y="4149720"/>
            <a:ext cx="1258920" cy="71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588080" y="2708280"/>
            <a:ext cx="1403640" cy="649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276720" y="1916280"/>
            <a:ext cx="1944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64000" y="260280"/>
            <a:ext cx="194472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68360" y="270000"/>
            <a:ext cx="86756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 @       ج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 $        د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6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ب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ناتج طرح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 –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ا~  ذ ا ب    ب~ -ذ ا@ب@    ج~ - ذ ا ب     د~  ذ ا@ب@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-160200" y="263700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تعريف : كثيرة الحدود هي عبارة رياضية ناتجة عن جم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حيدتي حد أو أكثر غير متشابهتي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أمثلة :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ص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~ ذ ا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 س# - س@  +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68360" y="42926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ar-SA" sz="3600" spc="-1" strike="noStrike">
                <a:solidFill>
                  <a:srgbClr val="ff3300"/>
                </a:solidFill>
                <a:latin typeface="Verdana"/>
              </a:rPr>
              <a:t>وتسمى ثنائية ح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5084640"/>
            <a:ext cx="52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       وتسمى ثلاثي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24000" y="59500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       وتسمى رباعية حدود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340000" y="12682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كثيرات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6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82480" y="4348080"/>
            <a:ext cx="8353440" cy="250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9960" y="1927080"/>
            <a:ext cx="8353440" cy="23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39640" y="100080"/>
            <a:ext cx="8353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910640" y="4394160"/>
            <a:ext cx="104292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492360" y="944640"/>
            <a:ext cx="3311640" cy="936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476360" y="189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كل منها يسمى كثير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506680" y="103176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تبسيط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90440" y="202104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تكون كثيرة الحدود غير مبسطة إذا وجد فيها على الأق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حدين متشابهين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مثل :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 -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تبسيطها يكون بجمع حدودها المتشابه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مثال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=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@ +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=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+ ذ ب – ذ ا + ب -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54450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ذ 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11280" y="6308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ا +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ب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71640" y="1484280"/>
            <a:ext cx="7921440" cy="403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71640" y="260280"/>
            <a:ext cx="79214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364000" y="271440"/>
            <a:ext cx="3456000" cy="720720"/>
          </a:xfrm>
          <a:custGeom>
            <a:avLst/>
            <a:gdLst>
              <a:gd name="textAreaLeft" fmla="*/ 0 w 3456000"/>
              <a:gd name="textAreaRight" fmla="*/ 3456360 w 3456000"/>
              <a:gd name="textAreaTop" fmla="*/ 93240 h 720720"/>
              <a:gd name="textAreaBottom" fmla="*/ 6274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84160" y="260280"/>
            <a:ext cx="79930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0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حدد أيا ً من كثيرات الحدود التالية مبسطة وأيا ً منها غير مبسطة ، وبسط غير المبسط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ص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ص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ب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ج~ -ذ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د~ %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@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16286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= - ذ س +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9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4360" y="2205000"/>
            <a:ext cx="41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  مبسطة لأن حدودها مختلق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39640" y="2997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26920" y="3684600"/>
            <a:ext cx="4681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 %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- $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!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70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77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6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77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81160" y="3789360"/>
            <a:ext cx="8634240" cy="27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4920" y="2333520"/>
            <a:ext cx="863424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8040" y="1031760"/>
            <a:ext cx="8634600" cy="12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956720" y="2421000"/>
            <a:ext cx="93636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771640" y="127080"/>
            <a:ext cx="4032360" cy="863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14480" y="14616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درجة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19240" y="1146240"/>
            <a:ext cx="88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درجة كثيرة الحدود بالنسبة لمتغير فيها تساوي أكبر أس  لهذا المتغير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84360" y="25322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أمثلة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#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564000" y="2997360"/>
            <a:ext cx="50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بالنسبة للمتغير س من الدرج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93880" y="31035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03640" y="386064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س ص% + ذ س@ - س# ص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-92160" y="3860640"/>
            <a:ext cx="450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093080" y="4653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411280" y="465300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465300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الخام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835280" y="5661000"/>
            <a:ext cx="64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ين س ،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5640" y="5661000"/>
            <a:ext cx="165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77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770" fill="hold"/>
                                        <p:tgtEl>
                                          <p:spTgt spid="7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403200" y="3789360"/>
            <a:ext cx="8604360" cy="29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812000" y="5516640"/>
            <a:ext cx="104292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44600" y="146160"/>
            <a:ext cx="8604000" cy="36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40360" y="3933720"/>
            <a:ext cx="2879640" cy="6476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11280" y="907920"/>
            <a:ext cx="792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332000" y="836640"/>
            <a:ext cx="1152360" cy="649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627280" y="836640"/>
            <a:ext cx="1440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140360" y="836640"/>
            <a:ext cx="136836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932360" y="260280"/>
            <a:ext cx="374328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3280" y="26028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تدريب (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 صفحة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0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1280" y="907920"/>
            <a:ext cx="8208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عين درجة كثيرة الحدود: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$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#ص@ 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ين س ،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4360" y="170028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رابع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340000" y="2492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187280" y="314172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السابع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724360" y="386064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ترتيب كثيرة الحدو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68360" y="4724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ترتب كثيرة الحدود حسب أس المتغيرات المكونة لحدود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41440" y="5589720"/>
            <a:ext cx="806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مثال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 س$ + س# -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11280" y="6021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مرتبة ترتيبا ً تنازليا ً لأن اس المغير س متناقص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6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77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770" fill="hold"/>
                                        <p:tgtEl>
                                          <p:spTgt spid="7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1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77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8" dur="770" fill="hold"/>
                                        <p:tgtEl>
                                          <p:spTgt spid="7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0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2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77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770" fill="hold"/>
                                        <p:tgtEl>
                                          <p:spTgt spid="7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1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3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77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7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9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1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45960" y="2496960"/>
            <a:ext cx="8642520" cy="141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38160"/>
            <a:ext cx="8642160" cy="141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995640" y="3933720"/>
            <a:ext cx="1297080" cy="647640"/>
          </a:xfrm>
          <a:prstGeom prst="ellipse">
            <a:avLst/>
          </a:prstGeom>
          <a:solidFill>
            <a:srgbClr val="00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059280" y="1484280"/>
            <a:ext cx="360036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11280" y="260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وكثيرة الحدود :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 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-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9640" y="83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مرتبة تصاعديا ً حسب أس المتغير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11280" y="2565360"/>
            <a:ext cx="853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بسط كثيرة الحدود التالية ثم رتبها تصاعديا ً ، وما درجتها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–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-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+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-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+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-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843280" y="162864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438360" y="3933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ال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343640" y="444492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تبسيط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7200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( -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+ذ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04000" y="4941720"/>
            <a:ext cx="27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+ ذ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(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 – 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484360" y="494172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(-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588000" y="5516640"/>
            <a:ext cx="179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716360" y="5516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140360" y="5589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hi-IN" sz="3200" spc="-1" strike="noStrike">
                <a:solidFill>
                  <a:srgbClr val="0000ff"/>
                </a:solidFill>
                <a:latin typeface="Verdana"/>
                <a:cs typeface="Al-KsorZulfiMath"/>
              </a:rPr>
              <a:t>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00360" y="551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987640" y="6278400"/>
            <a:ext cx="61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f6a8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ترتيب تصاعديا ً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+ س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4000" y="622620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درجة :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9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77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7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9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2962440"/>
            <a:ext cx="9144000" cy="158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80880" y="692280"/>
            <a:ext cx="8748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1341360"/>
            <a:ext cx="9144000" cy="158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492360" y="6021360"/>
            <a:ext cx="237492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003640" y="3716280"/>
            <a:ext cx="244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64360" y="2060640"/>
            <a:ext cx="1728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076720" y="0"/>
            <a:ext cx="3816360" cy="6922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932360" y="0"/>
            <a:ext cx="38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تمارين (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6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943280" y="765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ختر الإجابة الصحيحة لكل مما يأت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00000" y="141300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ثنائية حدين من الدرجة الأولى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ب~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د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11280" y="3141720"/>
            <a:ext cx="8532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عبارة رياضية تدعى ثلاثية حدود هي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#+ ص      ب~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- س +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ج~   !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ب ج       د~   ؛؛؛؛؛؛؛؛؛؛؛؛؛؛؛؛؛؛؛؛؛؛؛؛؛؛؛؛؛؛؛؛؛؛؛؛؛؛؛؛؛؛؛؛؛؛؛؛؛؛؛؛؛؛؛؛؛؛؛؛؛؛؛؛؛؛؛؛؛؛؛؛؛؛؛؛؛؛؛؛؛؛؛؛؛؛؛؛؛؛؛؛؛؛؛؛؛؛؛؛؛؛؛؛؛؛؛؛؛؛؛؛؛؛؛؛؛؛؛؛؛؛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16000" y="357336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547640" y="39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258920" y="4581360"/>
            <a:ext cx="7885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كثيرة حدود في أبسط صورة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ص@ + ص – ص           ب~ !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+ ا#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+ س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    د~ ا@ + ا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7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9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9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6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4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2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1:14:50Z</dcterms:created>
  <dc:creator>user</dc:creator>
  <dc:description/>
  <dc:language>en-US</dc:language>
  <cp:lastModifiedBy>Windows XP</cp:lastModifiedBy>
  <dcterms:modified xsi:type="dcterms:W3CDTF">2007-06-16T21:53:23Z</dcterms:modified>
  <cp:revision>11</cp:revision>
  <dc:subject/>
  <dc:title>الشريحة 1</dc:title>
</cp:coreProperties>
</file>