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616D-9114-4E2A-8BC6-4F90ECC9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668-B3B2-4D0E-B5BC-14581D24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D552-EC69-4049-88CE-3FCD8AE6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47A8-F3D3-4548-93AA-D994565D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49A2-AE4D-4CCC-BE0F-A3D927A7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1EA3-021F-4463-9F18-9443A7DC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E40B-6169-4FFF-8FB2-78707966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2024-2908-4A76-838F-DA81CA28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0167-6B59-4092-A693-0A061716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37B7-79BA-43EC-8168-84701386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3D92-4EBC-4C32-907D-3023A6AF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92B5-8598-43F4-A6D2-0422F04A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0BA9-A37C-4B47-B135-75C94B07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FF50-1B2A-4447-8718-3D344FEF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194E-3BF6-4607-A5C9-B6580F43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FC68-34E5-4D88-9866-8A223807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B15C-2830-4FA5-8959-03684774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375F1-726D-4C4F-BE50-0739075B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72843-A932-413F-8031-9F6A45CA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4402D-2B4E-4538-AE83-990F37DD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65AE1-D3E4-4235-9896-F7BAC7CE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B2D836-99EC-4568-BB11-11CFC2D2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99A-640E-46C3-9FCB-CCCB4DD9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0447E6-F726-4A8A-BC0A-2FE617AE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393EB-A8A9-4459-A08D-7F65CD7D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B9C36-FE29-4B51-83D3-6E7847EA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88EA4-1603-4C32-BC2D-73FD50C6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6AF51-BBAE-43D1-B4C9-CDA6EE09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9B6FA8-681E-4CE9-8EF2-3E22AD34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E8A05-22F7-4C52-B8D8-B32F8923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2B7A-4201-414D-B421-F1232B37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25D-C8FC-4D78-9687-BA898C03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6082-00AE-4CC0-BD52-BAD78857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A43E-401D-462E-9BBE-2C506310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5D5C-9445-4917-A347-66A81EAD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7781-02DE-4237-AF68-F4B50682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0CE2-1969-49F5-BDCB-A1D868180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D722-C88B-4A54-A5FE-1388BED3AF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8C5E-F304-46DD-94CB-5B2DC2F8E9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1773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ضرب كثيرات الحدود – ثاني متوسط – ف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600" y="917640"/>
            <a:ext cx="874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100080"/>
            <a:ext cx="4103640" cy="792000"/>
          </a:xfrm>
          <a:custGeom>
            <a:avLst/>
            <a:gdLst>
              <a:gd name="textAreaLeft" fmla="*/ 93240 w 4103640"/>
              <a:gd name="textAreaRight" fmla="*/ 4010400 w 410364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1187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8276" y="21600"/>
                </a:lnTo>
                <a:arcTo wR="3600" hR="3600" stAng="10800000" swAng="5400000"/>
                <a:lnTo>
                  <a:pt x="11187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10476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ضرب كثيرات ال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6400" y="84312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لاً : ضرب وحيدات الح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6680" y="1576440"/>
            <a:ext cx="8748720" cy="213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4840" y="4361040"/>
            <a:ext cx="8748720" cy="249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5760" y="3692520"/>
            <a:ext cx="87692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24000" y="1700280"/>
            <a:ext cx="9064800" cy="28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د ضرب وحيدات الحد نضرب المعاملات معا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والرموز معاً ولا ننسى أنه في حالة ضر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رموز المتشابهة نجمع الأس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367668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50760" y="361332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14800" y="4508640"/>
            <a:ext cx="37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س ×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1720" y="51688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-ذ ا@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× 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28880" y="450216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95360" y="45291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× س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7680" y="4570560"/>
            <a:ext cx="16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5940360"/>
            <a:ext cx="42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48080" y="5940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280" y="5992920"/>
            <a:ext cx="24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96720" y="2533680"/>
            <a:ext cx="8496360" cy="221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1400"/>
            <a:ext cx="8496360" cy="245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22480" y="25527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8000" y="20952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ب × -ا ب@ × ذا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83360" y="836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92440" y="86832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7360" y="890640"/>
            <a:ext cx="31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× ب@× ب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80360" y="149544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8644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688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6360" y="32130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$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82760" y="32544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×  ا × ا#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3800" y="39434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^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9880" y="393372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040" y="4743360"/>
            <a:ext cx="849636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486900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ج × -ذا@ب@ × ذج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5805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-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00720" y="5805360"/>
            <a:ext cx="7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72320" y="583884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9800" y="580536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3840" y="4724280"/>
            <a:ext cx="867564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200" y="2154240"/>
            <a:ext cx="8675640" cy="141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81612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41400"/>
            <a:ext cx="4680000" cy="765000"/>
          </a:xfrm>
          <a:custGeom>
            <a:avLst/>
            <a:gdLst>
              <a:gd name="textAreaLeft" fmla="*/ 90000 w 4680000"/>
              <a:gd name="textAreaRight" fmla="*/ 4590000 w 4680000"/>
              <a:gd name="textAreaTop" fmla="*/ 90000 h 765000"/>
              <a:gd name="textAreaBottom" fmla="*/ 675000 h 765000"/>
            </a:gdLst>
            <a:ahLst/>
            <a:rect l="textAreaLeft" t="textAreaTop" r="textAreaRight" b="textAreaBottom"/>
            <a:pathLst>
              <a:path w="1320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8489" y="21600"/>
                </a:lnTo>
                <a:arcTo wR="3600" hR="3600" stAng="10800000" swAng="5400000"/>
                <a:lnTo>
                  <a:pt x="13208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55d0e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76320" y="745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82960" y="8161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أكمل مباشرة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13372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الضرب في أبسط صو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6280" y="148428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78588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1200" y="143352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ذ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× - ذب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4468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61920" y="7952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س#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5520" y="546732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ب × ب@ × ب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3583080"/>
            <a:ext cx="1871640" cy="1141200"/>
          </a:xfrm>
          <a:prstGeom prst="downArrowCallout">
            <a:avLst>
              <a:gd name="adj1" fmla="val 41005"/>
              <a:gd name="adj2" fmla="val 41002"/>
              <a:gd name="adj3" fmla="val 16667"/>
              <a:gd name="adj4" fmla="val 6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583080"/>
            <a:ext cx="150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83000" y="5445000"/>
            <a:ext cx="20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ا@ × ا}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4000" y="5424480"/>
            <a:ext cx="344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{ 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×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98800" y="480708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86440" y="603396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43560" y="6137280"/>
            <a:ext cx="57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9800" y="6095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46240" y="281160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062000"/>
            <a:ext cx="9144000" cy="20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15920"/>
            <a:ext cx="6408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08160" y="13644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ضرب وحيدة حد في كثيرة 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14560"/>
            <a:ext cx="8747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عند ضرب وحيدة حد في كثيرة حدود نستخ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خاصية توزيع الضرب على الجمع كما سي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440" y="314172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1640" y="316080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50760" y="307656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3890880"/>
            <a:ext cx="56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32320" y="467352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661000"/>
            <a:ext cx="2087280" cy="1197000"/>
          </a:xfrm>
          <a:prstGeom prst="downArrowCallout">
            <a:avLst>
              <a:gd name="adj1" fmla="val 43598"/>
              <a:gd name="adj2" fmla="val 4359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0720" y="573408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55d0ed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2440" y="-2700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549360"/>
            <a:ext cx="56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6720" y="404640"/>
            <a:ext cx="1008000" cy="28764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16480" y="404640"/>
            <a:ext cx="2232000" cy="29700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67280" y="0"/>
            <a:ext cx="3457440" cy="692280"/>
          </a:xfrm>
          <a:custGeom>
            <a:avLst/>
            <a:gdLst/>
            <a:ahLst/>
            <a:rect l="l" t="t" r="r" b="b"/>
            <a:pathLst>
              <a:path w="2207" h="370">
                <a:moveTo>
                  <a:pt x="2207" y="345"/>
                </a:moveTo>
                <a:cubicBezTo>
                  <a:pt x="2122" y="294"/>
                  <a:pt x="1894" y="102"/>
                  <a:pt x="1698" y="51"/>
                </a:cubicBezTo>
                <a:cubicBezTo>
                  <a:pt x="1502" y="0"/>
                  <a:pt x="1238" y="24"/>
                  <a:pt x="1028" y="37"/>
                </a:cubicBezTo>
                <a:cubicBezTo>
                  <a:pt x="818" y="50"/>
                  <a:pt x="610" y="76"/>
                  <a:pt x="439" y="131"/>
                </a:cubicBezTo>
                <a:cubicBezTo>
                  <a:pt x="268" y="186"/>
                  <a:pt x="91" y="320"/>
                  <a:pt x="0" y="3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9640" y="1197000"/>
            <a:ext cx="33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{ذ س@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}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43320" y="1206360"/>
            <a:ext cx="30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ذ س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7080" y="1238400"/>
            <a:ext cx="263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18032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7440" y="180324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1773360"/>
            <a:ext cx="172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7080" y="2492280"/>
            <a:ext cx="895500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80000" y="290520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93080" y="2739960"/>
            <a:ext cx="792000" cy="21600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2678040"/>
            <a:ext cx="1872000" cy="36036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3640" y="3573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{ا@ × ا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32160" y="3571920"/>
            <a:ext cx="26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{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9800" y="2519280"/>
            <a:ext cx="2808360" cy="478080"/>
          </a:xfrm>
          <a:custGeom>
            <a:avLst/>
            <a:gdLst/>
            <a:ahLst/>
            <a:rect l="l" t="t" r="r" b="b"/>
            <a:pathLst>
              <a:path w="1769" h="301">
                <a:moveTo>
                  <a:pt x="1769" y="301"/>
                </a:moveTo>
                <a:cubicBezTo>
                  <a:pt x="1722" y="259"/>
                  <a:pt x="1604" y="94"/>
                  <a:pt x="1485" y="47"/>
                </a:cubicBezTo>
                <a:cubicBezTo>
                  <a:pt x="1366" y="0"/>
                  <a:pt x="1201" y="16"/>
                  <a:pt x="1056" y="20"/>
                </a:cubicBezTo>
                <a:cubicBezTo>
                  <a:pt x="911" y="24"/>
                  <a:pt x="746" y="47"/>
                  <a:pt x="614" y="74"/>
                </a:cubicBezTo>
                <a:cubicBezTo>
                  <a:pt x="482" y="101"/>
                  <a:pt x="368" y="143"/>
                  <a:pt x="266" y="181"/>
                </a:cubicBezTo>
                <a:cubicBezTo>
                  <a:pt x="164" y="219"/>
                  <a:pt x="55" y="276"/>
                  <a:pt x="0" y="30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8920" y="3613320"/>
            <a:ext cx="304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{ 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96360" y="425124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68720" y="4221000"/>
            <a:ext cx="18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38520" y="425124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5157720"/>
            <a:ext cx="7777440" cy="1700280"/>
          </a:xfrm>
          <a:prstGeom prst="flowChartMultidocument">
            <a:avLst/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08000" y="53229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1880" y="59277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إلى اللقاء محمد الس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2:39:12Z</dcterms:created>
  <dc:creator>user</dc:creator>
  <dc:description/>
  <dc:language>en-US</dc:language>
  <cp:lastModifiedBy>Windows XP</cp:lastModifiedBy>
  <dcterms:modified xsi:type="dcterms:W3CDTF">2007-06-16T21:52:51Z</dcterms:modified>
  <cp:revision>7</cp:revision>
  <dc:subject/>
  <dc:title>الشريحة 1</dc:title>
</cp:coreProperties>
</file>