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5678-DF92-4AAA-99EF-F89133E8F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D23A-665E-43E5-836A-898E08F5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7C2A-EAC0-4F44-A6A8-6E30726D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BD32-2157-4C93-BDDF-DA9BFC47E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3ECF-1964-4B58-826F-FE900CFD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88FC-58D7-4588-AAA9-C98D4F23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454A-BABC-45AB-8BF2-75A542BE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408E-C27F-49EB-977C-BAFC3B9F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3AC2-91B4-42BB-8E09-E7EF8BF2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C157-F8C4-4BAC-A144-CA9B166C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3561-3040-4893-8790-982595DA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6DA6-215B-4245-8383-03E278BF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D7FA-50E9-416F-B21C-93C2E40A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9F16-B7CE-4F79-8376-D9EDF29F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F2B7-4646-4FE9-86D3-189C68DD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7DAB-B14A-475F-A7AA-CA1097C3C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A321-AA72-4B44-AD6A-60510183C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40641E-53CD-430F-981C-967B7A320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BB8281-4B95-40F1-8858-25FC79FB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98ABA0-CBB3-49B4-9E1F-29A0E4A1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3B5C84-31DB-4EDD-A147-69DEA39E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3C8615-2526-4BD4-8C43-10745E23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A937-8B27-4BE2-A52A-4545AF4C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8BB554-7FA3-4599-9C7E-A4E662A5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17C22F-FAA1-4BCC-BBCF-DDF546D7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56C2A2-0DE6-43BC-9E06-F3AECF95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0132D1-CD48-46EE-9233-913ED8CF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D61583-498A-46EE-8107-AA92A223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9AF0EA-2174-4A8C-AD19-F6BC0E60D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C4D70F-33CD-45CA-AA4B-5DF8F4E73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9AB7-5049-4ECD-9664-959C9655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9DEF-262C-4C73-97AE-4691A39E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5DFF-54AD-45EA-A19D-5775A315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BFB5-80CE-4B93-9980-70551D08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02B5-AEB0-477F-96AF-AC2226FA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3A7D-AA7A-495D-A61E-0E89A159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B775-F29B-44C6-A064-3C4DF0059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39B2-647F-4261-808C-25C66139D1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0C04-351D-4E9F-93F1-E2133A0C40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متوازي الأضلاع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5654520" y="14461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0920" y="3736800"/>
            <a:ext cx="8810640" cy="2997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92360" y="3027240"/>
            <a:ext cx="410364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22840" y="1260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91120" y="554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رابع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9640" y="80172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927000"/>
            <a:ext cx="82821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 القطران ينصف كل منهما الآخ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651640" y="2924280"/>
            <a:ext cx="3492360" cy="852480"/>
          </a:xfrm>
          <a:custGeom>
            <a:avLst/>
            <a:gdLst>
              <a:gd name="textAreaLeft" fmla="*/ 797040 w 3492360"/>
              <a:gd name="textAreaRight" fmla="*/ 2695320 w 349236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02280" y="151128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خامس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5320" y="220500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080" y="2332080"/>
            <a:ext cx="8281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توازى وتساوى ضلعان متقابلان ف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516720" y="299736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مثل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53960" y="2975040"/>
            <a:ext cx="40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-82440" y="3654360"/>
            <a:ext cx="5249880" cy="2649240"/>
            <a:chOff x="-82440" y="3654360"/>
            <a:chExt cx="5249880" cy="2649240"/>
          </a:xfrm>
        </p:grpSpPr>
        <p:sp>
          <p:nvSpPr>
            <p:cNvPr id="358" name=""/>
            <p:cNvSpPr/>
            <p:nvPr/>
          </p:nvSpPr>
          <p:spPr>
            <a:xfrm flipH="1">
              <a:off x="1547280" y="414972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44120" y="585612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830760" y="4149720"/>
              <a:ext cx="79200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764640" y="4138560"/>
              <a:ext cx="79236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755640" y="4149720"/>
              <a:ext cx="388764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2932200" y="3968640"/>
              <a:ext cx="341280" cy="363600"/>
              <a:chOff x="2932200" y="3968640"/>
              <a:chExt cx="341280" cy="363600"/>
            </a:xfrm>
          </p:grpSpPr>
          <p:sp>
            <p:nvSpPr>
              <p:cNvPr id="364" name=""/>
              <p:cNvSpPr/>
              <p:nvPr/>
            </p:nvSpPr>
            <p:spPr>
              <a:xfrm>
                <a:off x="2932200" y="396864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079800" y="397332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2222640" y="5665680"/>
              <a:ext cx="342720" cy="363600"/>
              <a:chOff x="2222640" y="5665680"/>
              <a:chExt cx="342720" cy="363600"/>
            </a:xfrm>
          </p:grpSpPr>
          <p:sp>
            <p:nvSpPr>
              <p:cNvPr id="367" name=""/>
              <p:cNvSpPr/>
              <p:nvPr/>
            </p:nvSpPr>
            <p:spPr>
              <a:xfrm>
                <a:off x="2371680" y="566568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222640" y="567072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4375080" y="396396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80000" y="566100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19080" y="365436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-82440" y="551664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4240" y="508464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81560" y="438624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4519440" y="3778200"/>
            <a:ext cx="45007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سب البيانات 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رسم اثبت أن: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84720" y="6164280"/>
            <a:ext cx="1150920" cy="549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14960" y="6083280"/>
            <a:ext cx="115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2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0920" y="2924280"/>
            <a:ext cx="8893080" cy="16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0920" y="0"/>
            <a:ext cx="8893080" cy="292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-396720" y="-41400"/>
            <a:ext cx="5249880" cy="2649240"/>
            <a:chOff x="-396720" y="-41400"/>
            <a:chExt cx="5249880" cy="2649240"/>
          </a:xfrm>
        </p:grpSpPr>
        <p:sp>
          <p:nvSpPr>
            <p:cNvPr id="381" name=""/>
            <p:cNvSpPr/>
            <p:nvPr/>
          </p:nvSpPr>
          <p:spPr>
            <a:xfrm flipH="1">
              <a:off x="1233000" y="45396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429840" y="216036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3516480" y="453960"/>
              <a:ext cx="79200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450360" y="442800"/>
              <a:ext cx="79236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441360" y="453960"/>
              <a:ext cx="388764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2617920" y="272880"/>
              <a:ext cx="341280" cy="363600"/>
              <a:chOff x="2617920" y="272880"/>
              <a:chExt cx="341280" cy="363600"/>
            </a:xfrm>
          </p:grpSpPr>
          <p:sp>
            <p:nvSpPr>
              <p:cNvPr id="387" name=""/>
              <p:cNvSpPr/>
              <p:nvPr/>
            </p:nvSpPr>
            <p:spPr>
              <a:xfrm>
                <a:off x="2617920" y="27288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765520" y="27756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1908360" y="1969920"/>
              <a:ext cx="342720" cy="363600"/>
              <a:chOff x="1908360" y="1969920"/>
              <a:chExt cx="342720" cy="363600"/>
            </a:xfrm>
          </p:grpSpPr>
          <p:sp>
            <p:nvSpPr>
              <p:cNvPr id="390" name=""/>
              <p:cNvSpPr/>
              <p:nvPr/>
            </p:nvSpPr>
            <p:spPr>
              <a:xfrm>
                <a:off x="2057400" y="196992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908360" y="197496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4060800" y="26820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65720" y="196524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4800" y="-4140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-396720" y="182088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9960" y="138888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67280" y="69048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822920" y="17784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ب ا ؟ ج  = د ج ؟ ا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3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l-KsorZulfiMath"/>
              </a:rPr>
              <a:t>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637160" y="82872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وهما زاويتان متبادلت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486320" y="15825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إ ا ب  ] د 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699080" y="223848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، بم  ا د ] ب &lt;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معط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07400" y="2924280"/>
            <a:ext cx="83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540440" y="3700440"/>
            <a:ext cx="82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شكل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50920" y="4603680"/>
            <a:ext cx="8893080" cy="2254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38680" y="4619520"/>
            <a:ext cx="403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19440" y="5445000"/>
            <a:ext cx="45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سب البيانات 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-266760" y="4452840"/>
            <a:ext cx="6267600" cy="2674080"/>
            <a:chOff x="-266760" y="4452840"/>
            <a:chExt cx="6267600" cy="2674080"/>
          </a:xfrm>
        </p:grpSpPr>
        <p:sp>
          <p:nvSpPr>
            <p:cNvPr id="408" name=""/>
            <p:cNvSpPr/>
            <p:nvPr/>
          </p:nvSpPr>
          <p:spPr>
            <a:xfrm>
              <a:off x="1619280" y="4897440"/>
              <a:ext cx="259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84360" y="6453360"/>
              <a:ext cx="4535280" cy="71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684360" y="4868640"/>
              <a:ext cx="934920" cy="165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3276720" y="4868640"/>
              <a:ext cx="934920" cy="165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11640" y="4869000"/>
              <a:ext cx="1008000" cy="158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3352680" y="5978520"/>
              <a:ext cx="454320" cy="503280"/>
              <a:chOff x="3352680" y="5978520"/>
              <a:chExt cx="454320" cy="503280"/>
            </a:xfrm>
          </p:grpSpPr>
          <p:sp>
            <p:nvSpPr>
              <p:cNvPr id="414" name=""/>
              <p:cNvSpPr/>
              <p:nvPr/>
            </p:nvSpPr>
            <p:spPr>
              <a:xfrm>
                <a:off x="3352680" y="6043680"/>
                <a:ext cx="454320" cy="43164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564000" y="5978520"/>
                <a:ext cx="239760" cy="50328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710240" y="5999040"/>
              <a:ext cx="553680" cy="476280"/>
              <a:chOff x="4710240" y="5999040"/>
              <a:chExt cx="553680" cy="476280"/>
            </a:xfrm>
          </p:grpSpPr>
          <p:sp>
            <p:nvSpPr>
              <p:cNvPr id="417" name=""/>
              <p:cNvSpPr/>
              <p:nvPr/>
            </p:nvSpPr>
            <p:spPr>
              <a:xfrm flipH="1">
                <a:off x="4710240" y="6060600"/>
                <a:ext cx="553680" cy="40824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4714200" y="5999040"/>
                <a:ext cx="292320" cy="47628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971640" y="5589720"/>
              <a:ext cx="287280" cy="144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06720" y="629928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09880" y="469584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11480" y="630396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36960" y="469728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-266760" y="609588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51280" y="461340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66640" y="445284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38440" y="636264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48120" y="609588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4572000" y="5538960"/>
              <a:ext cx="216000" cy="144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7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990960" y="2187720"/>
            <a:ext cx="1225440" cy="79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-38160" y="0"/>
            <a:ext cx="9144000" cy="220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600440" y="88920"/>
            <a:ext cx="4500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رسم اثبت أن: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-304920" y="-209520"/>
            <a:ext cx="6267600" cy="2673720"/>
            <a:chOff x="-304920" y="-209520"/>
            <a:chExt cx="6267600" cy="2673720"/>
          </a:xfrm>
        </p:grpSpPr>
        <p:sp>
          <p:nvSpPr>
            <p:cNvPr id="434" name=""/>
            <p:cNvSpPr/>
            <p:nvPr/>
          </p:nvSpPr>
          <p:spPr>
            <a:xfrm>
              <a:off x="1581120" y="234720"/>
              <a:ext cx="259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646200" y="1790280"/>
              <a:ext cx="4535280" cy="70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646200" y="206280"/>
              <a:ext cx="934920" cy="165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3238560" y="206280"/>
              <a:ext cx="934920" cy="165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73480" y="206280"/>
              <a:ext cx="1008000" cy="1584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3314520" y="1315800"/>
              <a:ext cx="454320" cy="502920"/>
              <a:chOff x="3314520" y="1315800"/>
              <a:chExt cx="454320" cy="502920"/>
            </a:xfrm>
          </p:grpSpPr>
          <p:sp>
            <p:nvSpPr>
              <p:cNvPr id="440" name=""/>
              <p:cNvSpPr/>
              <p:nvPr/>
            </p:nvSpPr>
            <p:spPr>
              <a:xfrm>
                <a:off x="3314520" y="1380600"/>
                <a:ext cx="454320" cy="43128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525840" y="1315800"/>
                <a:ext cx="239760" cy="50292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4672080" y="1336320"/>
              <a:ext cx="553680" cy="475920"/>
              <a:chOff x="4672080" y="1336320"/>
              <a:chExt cx="553680" cy="475920"/>
            </a:xfrm>
          </p:grpSpPr>
          <p:sp>
            <p:nvSpPr>
              <p:cNvPr id="443" name=""/>
              <p:cNvSpPr/>
              <p:nvPr/>
            </p:nvSpPr>
            <p:spPr>
              <a:xfrm flipH="1">
                <a:off x="4672080" y="1397880"/>
                <a:ext cx="553680" cy="40788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4676040" y="1336320"/>
                <a:ext cx="292320" cy="47592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933480" y="927000"/>
              <a:ext cx="287280" cy="144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068560" y="163656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71720" y="3312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73320" y="164124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998800" y="3456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-304920" y="143316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13120" y="-4896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28480" y="-20952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00280" y="169992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09960" y="143316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4533840" y="876240"/>
              <a:ext cx="216000" cy="144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3689280" y="224640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80" y="3006720"/>
            <a:ext cx="9144000" cy="38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843280" y="342900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ه ؟  = ا ب ؟ 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95280" y="342900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716360" y="4149720"/>
            <a:ext cx="381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4000" y="411804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459320" y="479736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ك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607400" y="5516640"/>
            <a:ext cx="83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540440" y="6184800"/>
            <a:ext cx="82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شكل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755640" y="692280"/>
            <a:ext cx="7993080" cy="5400720"/>
          </a:xfrm>
          <a:prstGeom prst="flowChartMultidocument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87640" y="1844640"/>
            <a:ext cx="46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وإلى اللقا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55640" y="3573360"/>
            <a:ext cx="468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000000"/>
                </a:solidFill>
                <a:latin typeface="Arial"/>
              </a:rPr>
              <a:t>محمد السي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4360" y="3456000"/>
            <a:ext cx="8064360" cy="342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8160" y="1519200"/>
            <a:ext cx="820764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7400" y="836640"/>
            <a:ext cx="2340000" cy="863640"/>
          </a:xfrm>
          <a:custGeom>
            <a:avLst/>
            <a:gdLst>
              <a:gd name="textAreaLeft" fmla="*/ 534240 w 2340000"/>
              <a:gd name="textAreaRight" fmla="*/ 1805760 w 2340000"/>
              <a:gd name="textAreaTop" fmla="*/ 196920 h 863640"/>
              <a:gd name="textAreaBottom" fmla="*/ 6667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3280" y="0"/>
            <a:ext cx="3600360" cy="83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38440" y="22320"/>
            <a:ext cx="39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66ff"/>
                </a:solidFill>
                <a:latin typeface="Arial"/>
              </a:rPr>
              <a:t>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13720" y="863640"/>
            <a:ext cx="19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تعريف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1557360"/>
            <a:ext cx="83516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متوازي الأضلاع هو شكل رباعي فيه 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  ضلعان متقابلان متوازيان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741400" y="3956040"/>
            <a:ext cx="381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455480" y="5611680"/>
            <a:ext cx="381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262120" y="3956040"/>
            <a:ext cx="1295640" cy="165564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495440" y="3933720"/>
            <a:ext cx="1295280" cy="165600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7800" y="366876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6880" y="554040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77760" y="5611680"/>
            <a:ext cx="97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20880" y="32576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19640" y="3782880"/>
            <a:ext cx="1276920" cy="1998720"/>
            <a:chOff x="3419640" y="3782880"/>
            <a:chExt cx="1276920" cy="1998720"/>
          </a:xfrm>
        </p:grpSpPr>
        <p:grpSp>
          <p:nvGrpSpPr>
            <p:cNvPr id="183" name=""/>
            <p:cNvGrpSpPr/>
            <p:nvPr/>
          </p:nvGrpSpPr>
          <p:grpSpPr>
            <a:xfrm>
              <a:off x="4356000" y="3782880"/>
              <a:ext cx="340560" cy="363600"/>
              <a:chOff x="4356000" y="3782880"/>
              <a:chExt cx="340560" cy="363600"/>
            </a:xfrm>
          </p:grpSpPr>
          <p:sp>
            <p:nvSpPr>
              <p:cNvPr id="184" name=""/>
              <p:cNvSpPr/>
              <p:nvPr/>
            </p:nvSpPr>
            <p:spPr>
              <a:xfrm>
                <a:off x="4356000" y="3782880"/>
                <a:ext cx="19332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03240" y="3787560"/>
                <a:ext cx="19332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419640" y="5418000"/>
              <a:ext cx="342720" cy="363600"/>
              <a:chOff x="3419640" y="5418000"/>
              <a:chExt cx="342720" cy="363600"/>
            </a:xfrm>
          </p:grpSpPr>
          <p:sp>
            <p:nvSpPr>
              <p:cNvPr id="187" name=""/>
              <p:cNvSpPr/>
              <p:nvPr/>
            </p:nvSpPr>
            <p:spPr>
              <a:xfrm>
                <a:off x="3568680" y="541800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19640" y="542304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1824840" y="4567680"/>
            <a:ext cx="4336560" cy="403560"/>
            <a:chOff x="1824840" y="4567680"/>
            <a:chExt cx="4336560" cy="403560"/>
          </a:xfrm>
        </p:grpSpPr>
        <p:sp>
          <p:nvSpPr>
            <p:cNvPr id="190" name=""/>
            <p:cNvSpPr/>
            <p:nvPr/>
          </p:nvSpPr>
          <p:spPr>
            <a:xfrm rot="1119000">
              <a:off x="1852200" y="4641480"/>
              <a:ext cx="504720" cy="255600"/>
            </a:xfrm>
            <a:custGeom>
              <a:avLst/>
              <a:gdLst/>
              <a:ahLst/>
              <a:rect l="l" t="t" r="r" b="b"/>
              <a:pathLst>
                <a:path w="227" h="156">
                  <a:moveTo>
                    <a:pt x="227" y="156"/>
                  </a:moveTo>
                  <a:lnTo>
                    <a:pt x="153" y="0"/>
                  </a:lnTo>
                  <a:lnTo>
                    <a:pt x="0" y="11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119000">
              <a:off x="5628960" y="4641480"/>
              <a:ext cx="504720" cy="255600"/>
            </a:xfrm>
            <a:custGeom>
              <a:avLst/>
              <a:gdLst/>
              <a:ahLst/>
              <a:rect l="l" t="t" r="r" b="b"/>
              <a:pathLst>
                <a:path w="227" h="156">
                  <a:moveTo>
                    <a:pt x="227" y="156"/>
                  </a:moveTo>
                  <a:lnTo>
                    <a:pt x="153" y="0"/>
                  </a:lnTo>
                  <a:lnTo>
                    <a:pt x="0" y="11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619280" y="5918040"/>
            <a:ext cx="39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ff0066"/>
                </a:solidFill>
                <a:latin typeface="Arial"/>
              </a:rPr>
              <a:t>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480" y="4417920"/>
            <a:ext cx="8893080" cy="240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7360" y="2708280"/>
            <a:ext cx="88934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80" y="907920"/>
            <a:ext cx="8893440" cy="172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24200" y="66600"/>
            <a:ext cx="4681440" cy="69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78200" y="0"/>
            <a:ext cx="4979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خواص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44640" y="1052640"/>
            <a:ext cx="627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63760" y="2924280"/>
            <a:ext cx="678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زاويتان متقابلتان متساويتا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31840" y="4567320"/>
            <a:ext cx="699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القطران ينصف كل منهما الآخ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79280" y="1217520"/>
            <a:ext cx="2300040" cy="1130400"/>
            <a:chOff x="179280" y="1217520"/>
            <a:chExt cx="2300040" cy="1130400"/>
          </a:xfrm>
        </p:grpSpPr>
        <p:sp>
          <p:nvSpPr>
            <p:cNvPr id="202" name=""/>
            <p:cNvSpPr/>
            <p:nvPr/>
          </p:nvSpPr>
          <p:spPr>
            <a:xfrm>
              <a:off x="606240" y="1217520"/>
              <a:ext cx="18730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9280" y="2347920"/>
              <a:ext cx="18730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90080" y="1201680"/>
            <a:ext cx="2282400" cy="1152360"/>
            <a:chOff x="190080" y="1201680"/>
            <a:chExt cx="2282400" cy="1152360"/>
          </a:xfrm>
        </p:grpSpPr>
        <p:sp>
          <p:nvSpPr>
            <p:cNvPr id="205" name=""/>
            <p:cNvSpPr/>
            <p:nvPr/>
          </p:nvSpPr>
          <p:spPr>
            <a:xfrm flipH="1">
              <a:off x="2039400" y="1201680"/>
              <a:ext cx="43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90080" y="1201680"/>
              <a:ext cx="43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476360" y="29242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4320" y="3684600"/>
            <a:ext cx="86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5080" y="3033720"/>
            <a:ext cx="2592360" cy="1224000"/>
          </a:xfrm>
          <a:prstGeom prst="parallelogram">
            <a:avLst>
              <a:gd name="adj" fmla="val 52949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0640" y="3889440"/>
            <a:ext cx="576360" cy="360360"/>
          </a:xfrm>
          <a:custGeom>
            <a:avLst/>
            <a:gdLst/>
            <a:ahLst/>
            <a:rect l="l" t="t" r="r" b="b"/>
            <a:pathLst>
              <a:path w="363" h="227">
                <a:moveTo>
                  <a:pt x="363" y="0"/>
                </a:moveTo>
                <a:cubicBezTo>
                  <a:pt x="320" y="8"/>
                  <a:pt x="164" y="10"/>
                  <a:pt x="104" y="48"/>
                </a:cubicBezTo>
                <a:cubicBezTo>
                  <a:pt x="44" y="86"/>
                  <a:pt x="22" y="190"/>
                  <a:pt x="0" y="227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0222200">
            <a:off x="632520" y="3067920"/>
            <a:ext cx="576360" cy="360360"/>
          </a:xfrm>
          <a:custGeom>
            <a:avLst/>
            <a:gdLst/>
            <a:ahLst/>
            <a:rect l="l" t="t" r="r" b="b"/>
            <a:pathLst>
              <a:path w="363" h="227">
                <a:moveTo>
                  <a:pt x="363" y="0"/>
                </a:moveTo>
                <a:cubicBezTo>
                  <a:pt x="320" y="8"/>
                  <a:pt x="164" y="10"/>
                  <a:pt x="104" y="48"/>
                </a:cubicBezTo>
                <a:cubicBezTo>
                  <a:pt x="44" y="86"/>
                  <a:pt x="22" y="190"/>
                  <a:pt x="0" y="227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9360" y="5157720"/>
            <a:ext cx="2592360" cy="1224000"/>
          </a:xfrm>
          <a:prstGeom prst="parallelogram">
            <a:avLst>
              <a:gd name="adj" fmla="val 52949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01680" y="5157720"/>
            <a:ext cx="2592360" cy="1224000"/>
            <a:chOff x="301680" y="5157720"/>
            <a:chExt cx="2592360" cy="1224000"/>
          </a:xfrm>
        </p:grpSpPr>
        <p:sp>
          <p:nvSpPr>
            <p:cNvPr id="214" name=""/>
            <p:cNvSpPr/>
            <p:nvPr/>
          </p:nvSpPr>
          <p:spPr>
            <a:xfrm>
              <a:off x="949320" y="5180040"/>
              <a:ext cx="1297080" cy="115092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301680" y="5157720"/>
              <a:ext cx="2592360" cy="122400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060640" y="5873760"/>
            <a:ext cx="699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4869000"/>
            <a:ext cx="9144000" cy="19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34040" y="4060800"/>
            <a:ext cx="865080" cy="865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280" y="814320"/>
            <a:ext cx="9144000" cy="340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88000" y="-133200"/>
            <a:ext cx="2556000" cy="1197000"/>
          </a:xfrm>
          <a:prstGeom prst="irregularSeal1">
            <a:avLst/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74000" y="111240"/>
            <a:ext cx="17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مثلة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2000" y="912960"/>
            <a:ext cx="7993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في الشكل المقابل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توازي أضلا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يه :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ا ؟  =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%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حسب 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ب ؟   ،  ج ؟  ،  د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0" y="836640"/>
            <a:ext cx="5067360" cy="3005640"/>
            <a:chOff x="0" y="836640"/>
            <a:chExt cx="5067360" cy="3005640"/>
          </a:xfrm>
        </p:grpSpPr>
        <p:sp>
          <p:nvSpPr>
            <p:cNvPr id="224" name=""/>
            <p:cNvSpPr/>
            <p:nvPr/>
          </p:nvSpPr>
          <p:spPr>
            <a:xfrm>
              <a:off x="25200" y="3078000"/>
              <a:ext cx="82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9040" y="1484280"/>
              <a:ext cx="4105440" cy="1728720"/>
            </a:xfrm>
            <a:prstGeom prst="parallelogram">
              <a:avLst>
                <a:gd name="adj" fmla="val 59371"/>
              </a:avLst>
            </a:prstGeom>
            <a:solidFill>
              <a:srgbClr val="8def99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43360" y="11970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95400" y="306864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6800" y="83664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95640" y="1535040"/>
              <a:ext cx="15112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8120" y="141264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26478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86160" y="2587680"/>
              <a:ext cx="122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492360" y="409428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52560" y="482112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1440" y="5438880"/>
            <a:ext cx="89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25880" y="6095880"/>
            <a:ext cx="735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ب ؟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8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63400" y="4552920"/>
            <a:ext cx="8209080" cy="23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57880" y="4156200"/>
            <a:ext cx="1079280" cy="79200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5960" y="1268280"/>
            <a:ext cx="820908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0360" y="63972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8040" y="-2700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5640" y="-47520"/>
            <a:ext cx="75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93080" y="69228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 ا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64000" y="66672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ج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59280" y="625320"/>
            <a:ext cx="194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86560" y="1316160"/>
            <a:ext cx="165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،  ب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78600" y="1254240"/>
            <a:ext cx="165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 د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122076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5040" y="1916280"/>
            <a:ext cx="8209080" cy="23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95880" y="1989000"/>
            <a:ext cx="45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31920" y="1763640"/>
            <a:ext cx="5248080" cy="2550240"/>
            <a:chOff x="331920" y="1763640"/>
            <a:chExt cx="5248080" cy="2550240"/>
          </a:xfrm>
        </p:grpSpPr>
        <p:sp>
          <p:nvSpPr>
            <p:cNvPr id="252" name=""/>
            <p:cNvSpPr/>
            <p:nvPr/>
          </p:nvSpPr>
          <p:spPr>
            <a:xfrm>
              <a:off x="755640" y="2349360"/>
              <a:ext cx="4032360" cy="1295640"/>
            </a:xfrm>
            <a:prstGeom prst="parallelogram">
              <a:avLst>
                <a:gd name="adj" fmla="val 77806"/>
              </a:avLst>
            </a:prstGeom>
            <a:solidFill>
              <a:srgbClr val="ffff00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22880" y="176364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01680" y="17794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35280" y="3357720"/>
              <a:ext cx="86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1920" y="354960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70200" y="1768320"/>
              <a:ext cx="2017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7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س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62200" y="2637000"/>
              <a:ext cx="201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5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س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284720" y="2708280"/>
            <a:ext cx="4537080" cy="14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تواز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أضلاع أحسب محيطه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71880" y="409248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52560" y="482112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0200" y="5438880"/>
            <a:ext cx="862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40000" y="609588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=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11280" y="4842000"/>
            <a:ext cx="8208720" cy="20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e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8040" y="1981080"/>
            <a:ext cx="820908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1280" y="132552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1280" y="66996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87640" y="-648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=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973760" y="581040"/>
            <a:ext cx="38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حيط أي مضلع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2360" y="576360"/>
            <a:ext cx="48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جموع أطوال أضلاع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08360" y="123984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حيط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40000" y="198900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2637000"/>
            <a:ext cx="8208720" cy="20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e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73760" y="2657520"/>
            <a:ext cx="1800360" cy="647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13720" y="256392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م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96920" y="27399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ل رق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357720"/>
            <a:ext cx="79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 فيه: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؟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3860640"/>
            <a:ext cx="50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أوجد قياس زواياه الأخر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11640" y="4653000"/>
            <a:ext cx="1800360" cy="647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08320" y="4653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52560" y="523404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1440" y="5954760"/>
            <a:ext cx="89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39640" y="4919760"/>
            <a:ext cx="8209080" cy="196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13320" y="0"/>
            <a:ext cx="737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ب ؟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8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1040" y="69228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050920" y="579600"/>
            <a:ext cx="626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90400" y="13827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093080" y="140328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 ا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64000" y="138924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ج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97360" y="1347840"/>
            <a:ext cx="194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81040" y="203040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58120" y="2092320"/>
            <a:ext cx="17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،  ب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932360" y="2019240"/>
            <a:ext cx="188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 د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98800" y="199872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2600" y="2692440"/>
            <a:ext cx="8208720" cy="196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73760" y="2657520"/>
            <a:ext cx="1800360" cy="647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13720" y="256392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م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97200" y="27399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ل رقم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0680" y="3281400"/>
            <a:ext cx="813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 طول محيطه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00" y="3860640"/>
            <a:ext cx="81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سم ،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سم احسب أطوال أضلاع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19640" y="4653000"/>
            <a:ext cx="1800000" cy="647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392640" y="457668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0" y="527364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نصف المحيط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722840" y="5938920"/>
            <a:ext cx="368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+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25360" y="520524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طول + العر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743280" y="59626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0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32360" y="0"/>
            <a:ext cx="368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+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00720" y="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6922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48360" y="620640"/>
            <a:ext cx="23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92360" y="6206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04960" y="60336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1280" y="13636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72280" y="1335240"/>
            <a:ext cx="908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11280" y="20494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43640" y="2016000"/>
            <a:ext cx="202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48360" y="1989000"/>
            <a:ext cx="152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87640" y="203364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1280" y="274176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87640" y="272556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443640" y="2708280"/>
            <a:ext cx="202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148360" y="2698920"/>
            <a:ext cx="152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0800000">
            <a:off x="900000" y="3644640"/>
            <a:ext cx="7344000" cy="2879640"/>
          </a:xfrm>
          <a:prstGeom prst="upArrowCallout">
            <a:avLst>
              <a:gd name="adj1" fmla="val 63764"/>
              <a:gd name="adj2" fmla="val 63758"/>
              <a:gd name="adj3" fmla="val 16667"/>
              <a:gd name="adj4" fmla="val 66660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16200000"/>
          </a:gra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39800" y="3683160"/>
            <a:ext cx="7273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ننتقل الآن إلى الحالات التي يكو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يها الشكل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4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9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4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9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9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763560" y="575640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89440" y="49417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3560" y="429264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708520" y="36115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22160" y="302436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51640" y="2374920"/>
            <a:ext cx="3492360" cy="852480"/>
          </a:xfrm>
          <a:custGeom>
            <a:avLst/>
            <a:gdLst>
              <a:gd name="textAreaLeft" fmla="*/ 797040 w 3492360"/>
              <a:gd name="textAreaRight" fmla="*/ 2695320 w 349236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87320" y="1204920"/>
            <a:ext cx="8209080" cy="126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63640" y="-19080"/>
            <a:ext cx="5977080" cy="126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76360" y="1463760"/>
            <a:ext cx="72738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كون الشكل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ي الحالات الآت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84360" y="190440"/>
            <a:ext cx="72738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الحالات التي يكون فيها الش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227640" y="242100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أو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76360" y="3156120"/>
            <a:ext cx="727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300720" y="371628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ثا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81120" y="4464000"/>
            <a:ext cx="727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300720" y="50450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ثالث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7840" y="5932440"/>
            <a:ext cx="8281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ت 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17:01:31Z</dcterms:created>
  <dc:creator>sa</dc:creator>
  <dc:description/>
  <dc:language>en-US</dc:language>
  <cp:lastModifiedBy>Windows XP</cp:lastModifiedBy>
  <dcterms:modified xsi:type="dcterms:W3CDTF">2007-06-16T21:53:54Z</dcterms:modified>
  <cp:revision>11</cp:revision>
  <dc:subject/>
  <dc:title>الشريحة 1</dc:title>
</cp:coreProperties>
</file>