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E8F6-B8FE-4B01-BA8F-FFF9B78D9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3860-2EED-450D-BA34-15799A4C2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4369-BDF1-4AC2-8AF2-83BFD6F6A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2E0D-923B-43CE-92D0-746B8FFBF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A57BDA-47A6-4BF5-921A-EA35168A1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82706B-538F-4381-B7E4-841025C1E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6321AF-AD94-45B9-AAFB-7C0549010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FC6D97-BEDD-489A-BC1E-8EADBFA98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5D1D7B-7BA5-4927-BCD3-0A3F88579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975D05-D960-4884-9487-77F08CB8C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7A8CE2-ACFD-4AAD-964B-3932B8200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922A-3C28-43EE-82E9-F23B62757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1BCADA-3AE5-4306-8CBA-ED8792C44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D571EC-36A0-4958-92E5-F8FE655B0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6894A1-7D11-4FAF-94BA-14C516CAB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61195D-ED09-4ABB-ADA6-78C987E40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767AD6-0F86-422A-91B9-1683606FF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45C084-342F-46DE-928F-EF4F488B5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662200-0660-42EA-B68D-61E57C9EB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ED839F-BCC4-4E1E-93BF-AF1427E34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2AAE30-5A6C-468F-94FE-049880A74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345662-3FAA-4CF4-88BC-96ADAEB47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BC08-41BE-4F15-B3F3-5D2E3710E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BAC7D9-41F2-4A7E-9B67-F141C7F19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5C8EBD-C81C-4D78-A3C9-DE6E2ABF0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123ABE-557F-45E9-804B-E04E212A8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6BCD5A-581D-4AB3-B589-B25F3DDAF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31A5B5-6CF5-4AAA-8141-A860CAD20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D7B13F-77FF-4499-B971-DC02D1B0A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B7A276-149F-465A-A0EB-AC4990DFD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321745-3188-41EC-924E-C41694781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E13701-23AA-4263-832E-F1249A509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81C0EB-6F3E-4192-8655-B38B5FD3B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D807-1781-4DCB-BAC0-DB70110C8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8D0F31-F416-46EB-9482-7563C9BF9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6572E5-A5B9-4369-B8DF-554028E05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56990C-6FFA-49A5-BD8F-B174C2787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5F2054-8364-4439-94AA-33FEF3BF4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3901C2-2455-4555-86FF-75B5D2090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F217D7-B5C1-4CA2-B251-C997704DF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2390A4-9031-4973-A8FD-D87A7948D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6A261B-4859-4E4E-971C-3BB6808F4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B69113-3C94-4FDC-9CDD-3D36BF563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080B17-FC6C-4A02-8DE4-3DACF80E9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8F57-61B1-4664-BD59-C68F3E659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A173B4-C9DD-4B78-BAA6-30EA08E93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53DC98-B190-47EF-9D46-822044476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B8EBED-DBEF-4312-9C7C-D2357C415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AD3396-218E-46A3-B559-0F117C965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F9F669-78A6-42AC-B2DD-5C85875CC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330D03-6BEB-4F42-936F-C3D1950EF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B5E724-C283-4DA7-9B1A-7E2F79509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8EF5D9-DD03-4CC2-B986-D25246CB3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E8359D-D08A-43E3-AFE6-F2F8D1881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1ADF63-B0EF-4D53-B559-24F5AB218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7C85-02B5-486C-8A43-020EE41D9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3248AC-6732-4EDC-8645-50DA155D7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FF5D7C-E0E1-4F4B-A858-2E8E43498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FCFB82-5A31-4830-A7AA-4818CE1AF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D73B6E-11F3-4663-B093-59AB1C6A3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491882-D81C-4D5E-960F-0C9CF93C7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47DC8C-DDF6-4481-A225-D0053D21C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AF354E-2215-4124-A126-978F3E75F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986FA3-0F9B-4263-BB51-5BA4460CA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A74987-3DA9-4AC4-9799-01589C52B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57A30D-CFF8-44A1-976B-D5D68C64B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3FC5-0767-4A9A-A11D-32209E637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BB4C52-6B2D-4121-91DC-007BDC3BD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93C4B1-BF6D-44C1-B94F-68C4F23E5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BA19EE-0D9F-4C22-B853-B5C08CF47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DECA3A-B9D8-4A99-BBB8-F2955BAE7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CE164C-9649-4F46-8BCF-4EA659490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47C036-0CFA-4114-89FE-BEA4ACD9C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B1E0D4-4345-427C-B8ED-FFA014A62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A7EC1D-007D-4DF9-88F4-CF48437AE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2F4BB8-7776-4CA8-9F28-14BF865D7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3FF367-1E9E-4099-9EA4-B51EF01EF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DEA6-5CA1-4A1E-8836-8D892F62D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3EB75D-174F-4F20-9981-10EFCB523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B4DEC5-5B49-4CE0-B60B-6A599C433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304D0E-D320-40A7-910B-0B2FDC43D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868027-B332-42AE-B6D8-DAE45D7D5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90C295-0A0D-4083-AC38-77EA46845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7B013A-2E97-480A-AE60-732D0B30F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4BAF31-B97B-40C2-A59D-958510C61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8BD628-F325-4206-9E2C-F26D88B7C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1FCA62-0C2C-444D-8FBC-A3E58532A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DA9317-149B-48AB-847B-EF6E384FE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2886-63EB-4FCB-9416-637835826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2D747D-4A63-448C-A1FE-1711E1FC1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03F70E-6659-4EAD-B5D5-06DDA21CC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FDC0B8-6DD2-41AF-8540-52E71A198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6BCF58-DCF8-48EE-970B-054FB94A1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324C36-1C4E-4E1D-B472-09C6BD130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8B8D0B-9ADA-40F0-9040-EB116BBB8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85B86D-2FD0-4E13-BC47-4B851601E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368BB-1A9B-416C-99DB-1A90F5F921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55D3E-E14B-43C0-B850-28C58EC9EA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23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4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25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50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6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67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9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9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dt" idx="7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ftr" idx="8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sldNum" idx="9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58BFC-55DE-4A25-85E8-36F78B07890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229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30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231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56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2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273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5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276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5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dt" idx="10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ftr" idx="11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D185F-ED99-4F08-8BE3-3DF3DD2CFD0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3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334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26A79-A9DC-46E1-BEF8-D5F1BAC7F3B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2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383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EFD33-1DC3-4F53-8B77-25E8DBFAF77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43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4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44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EB092-8492-4E3D-8033-39658551EDED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51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2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52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CA489-8238-4169-8A66-49CE823EFCE0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1979640" y="496800"/>
            <a:ext cx="5545080" cy="792360"/>
          </a:xfrm>
          <a:custGeom>
            <a:avLst/>
            <a:gdLst>
              <a:gd name="textAreaLeft" fmla="*/ 93240 w 5545080"/>
              <a:gd name="textAreaRight" fmla="*/ 5451840 w 5545080"/>
              <a:gd name="textAreaTop" fmla="*/ 93240 h 792360"/>
              <a:gd name="textAreaBottom" fmla="*/ 699120 h 792360"/>
            </a:gdLst>
            <a:ahLst/>
            <a:rect l="textAreaLeft" t="textAreaTop" r="textAreaRight" b="textAreaBottom"/>
            <a:pathLst>
              <a:path w="15110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47502" y="21600"/>
                </a:lnTo>
                <a:arcTo wR="3600" hR="3600" stAng="10800000" swAng="5400000"/>
                <a:lnTo>
                  <a:pt x="151102" y="3600"/>
                </a:lnTo>
                <a:arcTo wR="3600" hR="3600" stAng="5400000" swAng="5400000"/>
                <a:close/>
              </a:path>
            </a:pathLst>
          </a:custGeom>
          <a:solidFill>
            <a:srgbClr val="ffff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539640" y="476280"/>
            <a:ext cx="669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  دروس في الرياضيات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1116000" y="1700280"/>
            <a:ext cx="7559640" cy="4176720"/>
          </a:xfrm>
          <a:prstGeom prst="flowChartMultidocument">
            <a:avLst/>
          </a:prstGeom>
          <a:gradFill rotWithShape="0">
            <a:gsLst>
              <a:gs pos="0">
                <a:srgbClr val="00ffcc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1547640" y="1773360"/>
            <a:ext cx="6985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Traditional Arabic"/>
              </a:rPr>
              <a:t> مقياس الرسم – ثاني متوسط – ف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Traditional Arabic"/>
              </a:rPr>
              <a:t>2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Traditional Arabic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1187280" y="2565360"/>
            <a:ext cx="698508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 كتابة وتنسيق / محمد عبدالله السيد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Arial"/>
                <a:cs typeface="Traditional Arabic"/>
              </a:rPr>
              <a:t>مدرسة ابن عثيمين المتوسطة بمحافظة الزلفي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1428</a:t>
            </a: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 / </a:t>
            </a: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1429</a:t>
            </a: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 هـ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"/>
          <p:cNvSpPr/>
          <p:nvPr/>
        </p:nvSpPr>
        <p:spPr>
          <a:xfrm>
            <a:off x="227160" y="5129280"/>
            <a:ext cx="8748720" cy="158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3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50920" y="3141720"/>
            <a:ext cx="8748720" cy="158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3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271440" y="981000"/>
            <a:ext cx="8748720" cy="158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3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076640" y="4476600"/>
            <a:ext cx="1656000" cy="720720"/>
          </a:xfrm>
          <a:prstGeom prst="ellipse">
            <a:avLst/>
          </a:prstGeom>
          <a:solidFill>
            <a:srgbClr val="00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 rot="782400">
            <a:off x="7188120" y="2134800"/>
            <a:ext cx="2303640" cy="136692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184560" y="38160"/>
            <a:ext cx="3363840" cy="90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2700360" y="0"/>
            <a:ext cx="3384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Imprint MT Shadow"/>
                <a:cs typeface="mohammad bold art 1"/>
              </a:rPr>
              <a:t>مقياس الرسم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716360" y="1413000"/>
            <a:ext cx="4176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مقياس الرسم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1618920" y="1762200"/>
            <a:ext cx="352908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179280" y="1012680"/>
            <a:ext cx="5104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الطول في الرسم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826920" y="1844640"/>
            <a:ext cx="4476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الطول الحقيقي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7451640" y="2349360"/>
            <a:ext cx="144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mohammad bold art 1"/>
              </a:rPr>
              <a:t>أمثلة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549360" y="3151080"/>
            <a:ext cx="82850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mohammad bold art 1"/>
              </a:rPr>
              <a:t>ا- رسمت منارة بمقياس رسم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mohammad bold art 1"/>
              </a:rPr>
              <a:t>1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mohammad bold art 1"/>
              </a:rPr>
              <a:t> :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mohammad bold art 1"/>
              </a:rPr>
              <a:t>300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mohammad bold art 1"/>
              </a:rPr>
              <a:t> فكان ارتفاعها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mohammad bold art 1"/>
              </a:rPr>
              <a:t>6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mohammad bold art 1"/>
              </a:rPr>
              <a:t>سم أوجد الارتفاع الحقيقي للمنارة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6727680" y="444960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995640" y="4427640"/>
            <a:ext cx="1511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الحل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4788000" y="5456160"/>
            <a:ext cx="4032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مقياس الرسم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 flipH="1">
            <a:off x="847800" y="5837400"/>
            <a:ext cx="417672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703440" y="5846760"/>
            <a:ext cx="3974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الطول الحقيقي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116000" y="5138640"/>
            <a:ext cx="3708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الطول في الرسم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" dur="2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3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400" fill="hold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400" fill="hold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0" dur="2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400" fill="hold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400" fill="hold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7" dur="2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"/>
          <p:cNvSpPr/>
          <p:nvPr/>
        </p:nvSpPr>
        <p:spPr>
          <a:xfrm>
            <a:off x="0" y="3618000"/>
            <a:ext cx="9144000" cy="32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0" y="44280"/>
            <a:ext cx="9144000" cy="324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4067280" y="6021360"/>
            <a:ext cx="1439640" cy="692280"/>
          </a:xfrm>
          <a:prstGeom prst="rect">
            <a:avLst/>
          </a:prstGeom>
          <a:solidFill>
            <a:srgbClr val="99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7121520" y="3367080"/>
            <a:ext cx="1692360" cy="647640"/>
          </a:xfrm>
          <a:prstGeom prst="ellipse">
            <a:avLst/>
          </a:prstGeom>
          <a:solidFill>
            <a:srgbClr val="99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7013520" y="577800"/>
            <a:ext cx="165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3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6792840" y="20520"/>
            <a:ext cx="136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mohammad bold art 1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mohammad bold art 1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 flipH="1">
            <a:off x="7308360" y="620640"/>
            <a:ext cx="115092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6372360" y="27144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 flipH="1">
            <a:off x="2626920" y="620640"/>
            <a:ext cx="381636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2556000" y="527040"/>
            <a:ext cx="374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  <a:ea typeface="mohammad bold art 1"/>
              </a:rPr>
              <a:t> الطول الحقيقي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3603600" y="0"/>
            <a:ext cx="10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mohammad bold art 1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mohammad bold art 1"/>
              </a:rPr>
              <a:t>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4464000" y="1700280"/>
            <a:ext cx="468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ff0066"/>
                </a:solidFill>
                <a:latin typeface="Arial"/>
                <a:cs typeface="mohammad bold art 1"/>
              </a:rPr>
              <a:t>الطول الحقيقي </a:t>
            </a: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3051000" y="1722600"/>
            <a:ext cx="2457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6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3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268200" y="1720800"/>
            <a:ext cx="3059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800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سم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498600" y="2421000"/>
            <a:ext cx="2922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=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18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متر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6156360" y="3284640"/>
            <a:ext cx="25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مثال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230040" y="3902040"/>
            <a:ext cx="88934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قيست المسافة بين مدينتين على خارطة فكانت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5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سم وكانت المسافة الحقيقية بينهما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500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كم اوجد مقياس رسم الخارطة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3203640" y="5950080"/>
            <a:ext cx="23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الحل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5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6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6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7" dur="2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3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400" fill="hold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400" fill="hold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"/>
          <p:cNvSpPr/>
          <p:nvPr/>
        </p:nvSpPr>
        <p:spPr>
          <a:xfrm>
            <a:off x="0" y="4930920"/>
            <a:ext cx="9144000" cy="1927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33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0" y="3233880"/>
            <a:ext cx="9144000" cy="1657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33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41400" y="1546200"/>
            <a:ext cx="9144000" cy="1657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33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0" y="20520"/>
            <a:ext cx="9144000" cy="1484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33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7823160" y="4756320"/>
            <a:ext cx="1258920" cy="79200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4788000" y="289080"/>
            <a:ext cx="4032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مقياس الرسم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 flipH="1">
            <a:off x="468000" y="671400"/>
            <a:ext cx="460836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403280" y="-69840"/>
            <a:ext cx="352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الطول على الرسم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1476360" y="588960"/>
            <a:ext cx="3166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الطول الحقيقي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10280" y="1527120"/>
            <a:ext cx="1677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5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سم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5435640" y="2133720"/>
            <a:ext cx="1730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500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كم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7236000" y="1844640"/>
            <a:ext cx="86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 flipH="1">
            <a:off x="5292720" y="2224080"/>
            <a:ext cx="194472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4497480" y="189396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 flipH="1">
            <a:off x="361440" y="2224080"/>
            <a:ext cx="414036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1979640" y="148428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5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-57240" y="2119320"/>
            <a:ext cx="482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500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×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1000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1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 flipH="1">
            <a:off x="2076480" y="1450800"/>
            <a:ext cx="1008000" cy="6480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1258920" y="141300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3276720" y="2565360"/>
            <a:ext cx="15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1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 flipH="1">
            <a:off x="3417480" y="2109960"/>
            <a:ext cx="863640" cy="7920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6012000" y="3573360"/>
            <a:ext cx="86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 flipH="1">
            <a:off x="1897200" y="4005360"/>
            <a:ext cx="352872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2916360" y="3213000"/>
            <a:ext cx="107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857160" y="3878280"/>
            <a:ext cx="403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100000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7453440" y="4765680"/>
            <a:ext cx="16905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Bernard MT Condensed"/>
              </a:rPr>
              <a:t> مثال</a:t>
            </a:r>
            <a:r>
              <a:rPr b="1" lang="en-US" sz="4400" spc="-1" strike="noStrike">
                <a:solidFill>
                  <a:srgbClr val="ff0066"/>
                </a:solidFill>
                <a:latin typeface="Bernard MT Condensed"/>
              </a:rPr>
              <a:t>3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-272880" y="4699080"/>
            <a:ext cx="82087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Bernard MT Condensed"/>
              </a:rPr>
              <a:t>مقياس رسم خارطة هو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1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: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30000000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فإذا كانت المسافة الحقيقية بين موقعين على الخارطة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600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كم فكم تكون المسافة بينهما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3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5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1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9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8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8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7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4" dur="1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43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1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8" dur="4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4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"/>
          <p:cNvSpPr/>
          <p:nvPr/>
        </p:nvSpPr>
        <p:spPr>
          <a:xfrm>
            <a:off x="20520" y="4365720"/>
            <a:ext cx="9144000" cy="2492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6360" y="2997360"/>
            <a:ext cx="9144000" cy="1295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41400" y="1557360"/>
            <a:ext cx="9144000" cy="1295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41400" y="20520"/>
            <a:ext cx="9144000" cy="981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4211640" y="743040"/>
            <a:ext cx="1800360" cy="792000"/>
          </a:xfrm>
          <a:prstGeom prst="rect">
            <a:avLst/>
          </a:prstGeom>
          <a:gradFill rotWithShape="0">
            <a:gsLst>
              <a:gs pos="0">
                <a:srgbClr val="99ff3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1042920" y="127080"/>
            <a:ext cx="748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على الخارطة ؟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4068720" y="733320"/>
            <a:ext cx="165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الحل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4932360" y="1700280"/>
            <a:ext cx="3887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مقياس الرسم 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 flipH="1">
            <a:off x="1042920" y="2141640"/>
            <a:ext cx="4548240" cy="1260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539640" y="1413000"/>
            <a:ext cx="4572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Bernard MT Condensed"/>
              </a:rPr>
              <a:t> الطول على الخارطة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611280" y="2009880"/>
            <a:ext cx="4249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الطول الحقيقي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 flipH="1">
            <a:off x="5651640" y="3645000"/>
            <a:ext cx="341928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6948360" y="2852640"/>
            <a:ext cx="7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4924440" y="3559320"/>
            <a:ext cx="374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300000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356000" y="3284640"/>
            <a:ext cx="107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rnard MT Condensed"/>
              </a:rPr>
              <a:t>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 flipV="1">
            <a:off x="0" y="2241000"/>
            <a:ext cx="4643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Bernard MT Condensed"/>
              </a:rPr>
              <a:t> الطول على الخارطة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560520" y="3643200"/>
            <a:ext cx="403200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0" y="3673440"/>
            <a:ext cx="4908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600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  <a:ea typeface="Al-KsorZulfiMath"/>
              </a:rPr>
              <a:t>×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1000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  <a:ea typeface="Al-KsorZulfiMath"/>
              </a:rPr>
              <a:t>×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1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4726080" y="4756320"/>
            <a:ext cx="450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Bernard MT Condensed"/>
              </a:rPr>
              <a:t> الطول على الخارطة 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 flipH="1">
            <a:off x="0" y="5156280"/>
            <a:ext cx="485928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0" y="4568760"/>
            <a:ext cx="5111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Bernard MT Condensed"/>
              </a:rPr>
              <a:t>600</a:t>
            </a:r>
            <a:r>
              <a:rPr b="0" lang="en-US" sz="4400" spc="-1" strike="noStrike">
                <a:solidFill>
                  <a:srgbClr val="000000"/>
                </a:solidFill>
                <a:latin typeface="Bernard MT Condensed"/>
              </a:rPr>
              <a:t> × </a:t>
            </a:r>
            <a:r>
              <a:rPr b="0" lang="en-US" sz="4400" spc="-1" strike="noStrike">
                <a:solidFill>
                  <a:srgbClr val="000000"/>
                </a:solidFill>
                <a:latin typeface="Bernard MT Condensed"/>
              </a:rPr>
              <a:t>1000</a:t>
            </a:r>
            <a:r>
              <a:rPr b="0" lang="en-US" sz="4400" spc="-1" strike="noStrike">
                <a:solidFill>
                  <a:srgbClr val="000000"/>
                </a:solidFill>
                <a:latin typeface="Bernard MT Condensed"/>
              </a:rPr>
              <a:t> ×</a:t>
            </a:r>
            <a:r>
              <a:rPr b="0" lang="en-US" sz="4400" spc="-1" strike="noStrike">
                <a:solidFill>
                  <a:srgbClr val="000000"/>
                </a:solidFill>
                <a:latin typeface="Bernard MT Condensed"/>
              </a:rPr>
              <a:t>100</a:t>
            </a:r>
            <a:r>
              <a:rPr b="0" lang="en-US" sz="4400" spc="-1" strike="noStrike">
                <a:solidFill>
                  <a:srgbClr val="000000"/>
                </a:solidFill>
                <a:latin typeface="Bernard MT Condensed"/>
              </a:rPr>
              <a:t>×</a:t>
            </a:r>
            <a:r>
              <a:rPr b="0" lang="en-US" sz="4400" spc="-1" strike="noStrike">
                <a:solidFill>
                  <a:srgbClr val="000000"/>
                </a:solidFill>
                <a:latin typeface="Bernard MT Condensed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684360" y="5135400"/>
            <a:ext cx="324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300000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3924360" y="6064200"/>
            <a:ext cx="273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=  </a:t>
            </a:r>
            <a:r>
              <a:rPr b="1" lang="hi-IN" sz="4400" spc="-1" strike="noStrike">
                <a:solidFill>
                  <a:srgbClr val="000000"/>
                </a:solidFill>
                <a:latin typeface="Bernard MT Condensed"/>
                <a:cs typeface="Al-KsorZulfiMath"/>
              </a:rPr>
              <a:t>ذ </a:t>
            </a:r>
            <a:r>
              <a:rPr b="1" lang="hi-IN" sz="4400" spc="-1" strike="noStrike">
                <a:solidFill>
                  <a:srgbClr val="000000"/>
                </a:solidFill>
                <a:latin typeface="Bernard MT Condensed"/>
              </a:rPr>
              <a:t>سم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8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43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1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4" dur="4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4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2" dur="2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7" dur="2000"/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2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9" dur="1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6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0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0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09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6" dur="1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21" dur="2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38" dur="2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3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0" dur="1000"/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5" dur="20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8" dur="1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5" dur="1000"/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"/>
          <p:cNvSpPr/>
          <p:nvPr/>
        </p:nvSpPr>
        <p:spPr>
          <a:xfrm>
            <a:off x="419040" y="5549760"/>
            <a:ext cx="8642520" cy="1081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3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433440" y="4425840"/>
            <a:ext cx="8642160" cy="1081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3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53960" y="3213000"/>
            <a:ext cx="8642520" cy="1193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3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395280" y="620640"/>
            <a:ext cx="8642520" cy="216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3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3851280" y="2811600"/>
            <a:ext cx="1368360" cy="647640"/>
          </a:xfrm>
          <a:prstGeom prst="ellipse">
            <a:avLst/>
          </a:prstGeom>
          <a:solidFill>
            <a:srgbClr val="ff5050"/>
          </a:solidFill>
          <a:ln w="381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3708360" y="41400"/>
            <a:ext cx="4978440" cy="765000"/>
          </a:xfrm>
          <a:prstGeom prst="rect">
            <a:avLst/>
          </a:prstGeom>
          <a:solidFill>
            <a:srgbClr val="00ffcc"/>
          </a:soli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2843280" y="95400"/>
            <a:ext cx="6048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حل تدريب (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7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) صفحة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5</a:t>
            </a:r>
            <a:r>
              <a:rPr b="1" lang="hi-IN" sz="4400" spc="-1" strike="noStrike">
                <a:solidFill>
                  <a:srgbClr val="000000"/>
                </a:solidFill>
                <a:latin typeface="Bernard MT Condensed"/>
                <a:cs typeface="Al-KsorZulfiMath"/>
              </a:rPr>
              <a:t>ذ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  <a:ea typeface="Arabic Transparent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88" name=""/>
          <p:cNvGrpSpPr/>
          <p:nvPr/>
        </p:nvGrpSpPr>
        <p:grpSpPr>
          <a:xfrm>
            <a:off x="684360" y="466560"/>
            <a:ext cx="8137440" cy="3640680"/>
            <a:chOff x="684360" y="466560"/>
            <a:chExt cx="8137440" cy="3640680"/>
          </a:xfrm>
        </p:grpSpPr>
        <p:sp>
          <p:nvSpPr>
            <p:cNvPr id="689" name=""/>
            <p:cNvSpPr/>
            <p:nvPr/>
          </p:nvSpPr>
          <p:spPr>
            <a:xfrm>
              <a:off x="684360" y="661680"/>
              <a:ext cx="8137440" cy="344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Bernard MT Condensed"/>
                </a:rPr>
                <a:t> مقياس رسم خارطة هو             ما هو بعد موقعين على هذه الخارطة إذا كانت المسافة الحقيقية بينهما هي </a:t>
              </a:r>
              <a:r>
                <a:rPr b="1" lang="en-US" sz="4400" spc="-1" strike="noStrike">
                  <a:solidFill>
                    <a:srgbClr val="000000"/>
                  </a:solidFill>
                  <a:latin typeface="Bernard MT Condensed"/>
                </a:rPr>
                <a:t>1000</a:t>
              </a:r>
              <a:r>
                <a:rPr b="1" lang="en-US" sz="4400" spc="-1" strike="noStrike">
                  <a:solidFill>
                    <a:srgbClr val="000000"/>
                  </a:solidFill>
                  <a:latin typeface="Bernard MT Condensed"/>
                </a:rPr>
                <a:t> متر ؟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627280" y="1114200"/>
              <a:ext cx="1944720" cy="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967120" y="466560"/>
              <a:ext cx="936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66"/>
                  </a:solidFill>
                  <a:latin typeface="Bernard MT Condensed"/>
                </a:rPr>
                <a:t> </a:t>
              </a:r>
              <a:r>
                <a:rPr b="1" lang="en-US" sz="4400" spc="-1" strike="noStrike">
                  <a:solidFill>
                    <a:srgbClr val="ff0066"/>
                  </a:solidFill>
                  <a:latin typeface="Bernard MT Condensed"/>
                </a:rPr>
                <a:t>1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989000" y="938160"/>
              <a:ext cx="2521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0066"/>
                  </a:solidFill>
                  <a:latin typeface="Bernard MT Condensed"/>
                </a:rPr>
                <a:t>50000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93" name=""/>
          <p:cNvSpPr/>
          <p:nvPr/>
        </p:nvSpPr>
        <p:spPr>
          <a:xfrm>
            <a:off x="3851280" y="2708280"/>
            <a:ext cx="1368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الحل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4500720" y="3500280"/>
            <a:ext cx="4643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Bernard MT Condensed"/>
              </a:rPr>
              <a:t>مقياس رسم الخارطة 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 flipH="1">
            <a:off x="755280" y="3890880"/>
            <a:ext cx="374508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247680" y="3203640"/>
            <a:ext cx="4319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الطول على الخارطة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1074600" y="3798720"/>
            <a:ext cx="3033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الطول الحقيقي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5435640" y="5075280"/>
            <a:ext cx="302400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6227640" y="4427640"/>
            <a:ext cx="10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5796000" y="4951440"/>
            <a:ext cx="2273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500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4376880" y="4653000"/>
            <a:ext cx="93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 flipH="1">
            <a:off x="477720" y="5043600"/>
            <a:ext cx="417672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539640" y="4303800"/>
            <a:ext cx="4027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الطول على الخارطة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262080" y="4919760"/>
            <a:ext cx="406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1000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×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1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4464000" y="5713560"/>
            <a:ext cx="468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الطول على الخارطة 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 flipH="1">
            <a:off x="639720" y="6081840"/>
            <a:ext cx="406728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971640" y="6033960"/>
            <a:ext cx="25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500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395280" y="5425920"/>
            <a:ext cx="4476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1000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× 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100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×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1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676" dur="indefinite" restart="never" nodeType="tmRoot">
          <p:childTnLst>
            <p:seq>
              <p:cTn id="677" dur="indefinite" nodeType="mainSeq">
                <p:childTnLst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2" dur="20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43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8" dur="4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4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6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1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06" dur="2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11" dur="2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16" dur="2000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1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42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4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4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5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6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6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8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7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8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9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97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0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0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0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2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3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"/>
          <p:cNvSpPr/>
          <p:nvPr/>
        </p:nvSpPr>
        <p:spPr>
          <a:xfrm>
            <a:off x="468360" y="620640"/>
            <a:ext cx="828036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5867280" y="69228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ernard MT Condensed"/>
              </a:rPr>
              <a:t> = </a:t>
            </a:r>
            <a:r>
              <a:rPr b="1" lang="hi-IN" sz="4000" spc="-1" strike="noStrike">
                <a:solidFill>
                  <a:srgbClr val="000000"/>
                </a:solidFill>
                <a:latin typeface="Bernard MT Condensed"/>
                <a:cs typeface="Al-KsorZulfiMath"/>
              </a:rPr>
              <a:t>ذ </a:t>
            </a:r>
            <a:r>
              <a:rPr b="1" lang="hi-IN" sz="4000" spc="-1" strike="noStrike">
                <a:solidFill>
                  <a:srgbClr val="000000"/>
                </a:solidFill>
                <a:latin typeface="Bernard MT Condensed"/>
                <a:cs typeface="Arabic Transparent"/>
              </a:rPr>
              <a:t>سم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2050920" y="2060640"/>
            <a:ext cx="5545440" cy="4797360"/>
          </a:xfrm>
          <a:prstGeom prst="flowChartMultidocument">
            <a:avLst/>
          </a:prstGeom>
          <a:gradFill rotWithShape="0">
            <a:gsLst>
              <a:gs pos="0">
                <a:srgbClr val="99ff33"/>
              </a:gs>
              <a:gs pos="50000">
                <a:srgbClr val="ffffff"/>
              </a:gs>
              <a:gs pos="100000">
                <a:srgbClr val="99ff33"/>
              </a:gs>
            </a:gsLst>
            <a:lin ang="5400000"/>
          </a:gradFill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3124080" y="3500280"/>
            <a:ext cx="388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Bernard MT Condensed"/>
              </a:rPr>
              <a:t> و إلى اللقاء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1380960" y="4869000"/>
            <a:ext cx="388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000000"/>
                </a:solidFill>
                <a:latin typeface="Bernard MT Condensed"/>
              </a:rPr>
              <a:t>محمد السيد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7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5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60" dur="20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65" dur="20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0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7T06:37:45Z</dcterms:created>
  <dc:creator>جهاز الطالب</dc:creator>
  <dc:description/>
  <dc:language>en-US</dc:language>
  <cp:lastModifiedBy>Windows XP</cp:lastModifiedBy>
  <dcterms:modified xsi:type="dcterms:W3CDTF">2007-06-16T21:55:26Z</dcterms:modified>
  <cp:revision>7</cp:revision>
  <dc:subject/>
  <dc:title>الشريحة 1</dc:title>
</cp:coreProperties>
</file>