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C3C-A784-487F-BA92-D55A9BAA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C11-8337-4787-98CD-099A86E0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C37-2115-429F-B6EF-493643C0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62C-F1F6-4056-AB2F-CCEB613B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BB02-0A5F-4C14-B23F-6C47D978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30EC-3669-49D1-BEFE-08887E75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11C7-DCA4-4F5C-8223-EBE19897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2A4B-D2D0-4959-93DE-36E21B6D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69EC-64DC-4745-8D11-2975D369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506B-66B4-448A-B146-E37E3DF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C46E-13DA-48ED-BF0C-09BC7385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85E-62EA-421E-B34B-EB61F24A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C926-E335-40CB-A995-89E96B0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6DF0-E72D-4F65-95BD-EB418B37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6922-3119-4BAC-A66A-C0DB406F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FF92-C74C-4E34-89E9-80F17E96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4E4A-AD98-4023-8B60-CCD37212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00B-5258-45F2-88E1-D686569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F25-498E-47FD-8F5A-98DFEE47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C06-76AD-4244-99EB-F9825E83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CA9-34FF-4B68-A551-36914DA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866-9F49-458D-B515-17B20AC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870-2E07-4F11-B313-8D218CFB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0DE-545C-4EA9-8C2B-56BDD0F8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AA3-23CB-4933-98B6-DA30FEE54FAC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51E2-D8CF-4FE9-A001-D0F3AA0D2C81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10BE-8F7C-4272-9B99-1D20FE3C5DC7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أربعاء 29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CCE6-9A24-4F78-811D-F0E68EDE4A1D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0164-A9B0-4ADE-B62B-E0F5E6A7C3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E92D973-D1F0-4006-95F9-53C1C2544AA0}" type="datetime3">
              <a:rPr lang="en-US"/>
              <a:t>July 29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9BE-C487-4C0C-9544-16FB223377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A8F3F-D6C1-4188-B5F9-86AA027866E8}" type="datetime3">
              <a:rPr lang="en-US"/>
              <a:t>July 29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DDB-73F2-46B2-B4AA-A8DCB7948B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F5928-EA93-4DBE-B9FE-5C948DD2C1CD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AE0-6E00-4B3E-8F12-3D41BD5736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A1935-3CAE-4DC2-8358-10791EE4750D}" type="datetime3">
              <a:rPr lang="en-US"/>
              <a:t>July 29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BD6-8850-4536-B78D-DBAD667E44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755FE-8323-4D1A-8B03-54EA58403733}" type="datetime3">
              <a:rPr lang="en-US"/>
              <a:t>July 29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7B3-6225-4063-B42E-023B419666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86C43-EE84-41B4-BA4E-C0BB07A0321E}" type="datetime3">
              <a:rPr lang="en-US"/>
              <a:t>July 29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FDA-46DF-4F47-9E49-BC2774AC06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FC8A4-BC4E-4670-9219-F090793FA257}" type="datetime3">
              <a:rPr lang="en-US"/>
              <a:t>July 29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AE3-5836-42BC-BA0D-DD6AF7BF6F3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E772B-A79F-4AC5-BDFC-370B9C585449}" type="datetime3">
              <a:rPr lang="en-US"/>
              <a:t>July 29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