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0F6-C23C-49B4-BF6B-E5829EA4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462-CFA6-457A-A91B-9656944D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6EC-3CC2-432C-A04C-8B0FAFF7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E2E-344B-42B6-BEF2-77D98E2A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490E-6A29-4769-AE85-D4939B5A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F89A-9B49-4566-84AC-07AAA107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7F28-4A1E-4DDB-8A1D-07B4747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3471-ACEB-453C-AFE1-FBA265E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0AC3-56AA-4366-AFCD-D3F34D5A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30D5-1C8D-4B82-A1A1-80216BD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B7E-2047-4971-80C6-9D23A1B3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FD4-ABF9-4A4D-8F43-28EC82B9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207A-46DB-46B5-9112-1B95488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6579-9A76-436A-AE43-8A8FC25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2F37-F776-4E06-9466-3F1BFCB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5414-5F47-4D3E-9972-96CA9947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9548-160B-480F-8191-500C1102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4F8-7BE4-4878-A278-4220E433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36D-1DCA-4691-85AC-5ED115D3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0A3-98EE-4D29-BE53-589A256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C8C-F5E1-4517-9AE1-16A21C0F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B0D-3C04-4F56-8C1E-C3842D9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23A-606B-4338-8200-B0791AD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12B-A38D-4166-9C80-A35B13F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B085-C14F-40B9-8F7B-E419ECBE22AD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FED4-B29B-4F6C-A8FF-188FFC5D3C3F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41F3-D0DB-4CED-A5DA-5A61AFABB5CB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جمعة 31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A11-BD0F-4060-AA41-76D9E6348963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3F67-EAFD-4E61-B719-6FE1117C82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A985AE4-A418-4B1D-8CC7-4B7B3463BBE7}" type="datetime3">
              <a:rPr lang="en-US"/>
              <a:t>July 31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057-65DC-45A3-8E39-B724076450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BF5F5-8722-4FA1-8FC1-6DBE23D0E044}" type="datetime3">
              <a:rPr lang="en-US"/>
              <a:t>July 31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C64-EBF0-4301-8464-358004855F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F7A01-766C-4C9C-8C08-2C9F60B30FE2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C6C-E0EF-4F90-B3F8-B18E84BF6F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0D363-9719-4103-9F86-58E66AD0E28E}" type="datetime3">
              <a:rPr lang="en-US"/>
              <a:t>July 31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093-A9E9-402F-8680-991BB812E7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3E13B-99C2-4BEA-9032-B1FDD19B459F}" type="datetime3">
              <a:rPr lang="en-US"/>
              <a:t>July 31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9F9-C5D3-4440-BA29-E98C072EA2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5966D-7534-4E19-9349-8842ABD8B139}" type="datetime3">
              <a:rPr lang="en-US"/>
              <a:t>July 31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4C5-FC07-414D-B7EA-56303CF28D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5B856-9B5E-45C2-B0D6-6D6C1B6C42BA}" type="datetime3">
              <a:rPr lang="en-US"/>
              <a:t>July 31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7BC-0800-4915-9C37-2FBB80C66D6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A7809-14BD-4254-B1B2-C64A91FCFDDD}" type="datetime3">
              <a:rPr lang="en-US"/>
              <a:t>July 31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